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4A85A3F-4EB8-4F87-830C-487C3D0676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8097AB10-6B33-4C7C-B3F5-51BCC186A427}"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FC4DA5B1-0338-4C5E-A975-3B8EAE727329}"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030D62-48FF-4137-BE10-33E0883DD4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2E950-E413-4D3E-9EBC-540BBA2E2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86354A-C7EB-44EF-9D8C-1F309922C2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FFB536-1FAB-4D94-81FD-D9B2E52DD7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5B83C4A-6467-4610-946F-287C2F615A1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509348-2307-4D93-BDCC-925E6F0CA8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CA68E72-8E89-439D-96AE-682E158C3EA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B76FE9-FC2E-4659-9753-FF5CCD384AA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595AE1A-5181-45F0-9EFE-5B2BF85CAE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CAAE06F8-741A-457C-AB47-1477983398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39C476-6C9E-4559-8885-5A7213C5E1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A39D3-9738-49F0-A47A-B2C784FD0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1FC819-782D-4FA4-8C2D-B3AA8466144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6B171B-94FA-4DC0-80F2-421E4A35436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5F04A2-2800-4712-A694-221B162B15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178001F-4694-4999-982C-4D0953149AE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8B1D10-3EC1-4EEC-821E-0B587E0FC6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25DA7-76E1-4E2F-A7C5-A9D6C67C9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27E18-6D40-4621-9926-F99947594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5C1C8-B09F-42A3-B6DC-B8B1E27DE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F3CA1-A3F5-4169-874F-38840E98F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2D916-B300-4FF0-9D08-02EB4B7F5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3EC94-8320-43E1-ABE0-6E18DC611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1A874-5F91-4080-9152-6A2AAE0505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7C660135-23EA-4496-88D4-674DBD11600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F0D73BCB-8CFA-4BCA-9180-751C96A3301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615680"/>
          </a:xfrm>
          <a:prstGeom prst="rect">
            <a:avLst/>
          </a:prstGeom>
          <a:noFill/>
          <a:ln w="0">
            <a:noFill/>
          </a:ln>
        </p:spPr>
        <p:txBody>
          <a:bodyPr numCol="1" spcCol="0" anchor="t">
            <a:normAutofit fontScale="93000"/>
          </a:bodyPr>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A9387064-634A-4B06-8677-2E92A1164E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BF83B040-A396-4C57-9AC5-2B58B12150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027A91E9-C5D8-436B-8C46-CD0788054B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32645047-02EB-49AC-AC7A-8409D941E1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1B98937-719E-4B25-B711-F23649E26A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F022232E-7A8D-4CB3-9FAF-FCE82CAC30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543E5A61-9272-4C54-A222-E3F5E479DC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0C1FDADE-9638-49C1-8444-D9042B79F2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19C78810-047E-44F7-B749-EB96E8456C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9B04C0DC-2FDB-4FD5-9209-F2E8453A40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5DD8476C-8F18-48D1-AB9D-DD19B84DD1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396102C8-04B7-4F2C-B5E1-40E7B269B1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5C7B7BD5-55CF-4317-9047-93F8E3AD45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F1CA7122-8FB3-4BF6-9168-CB21C19959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B5124CD9-2665-480A-8AB9-2515DC4C5B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73C0ED-57A6-411C-ABC5-20F4F34D55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C63DA9-BE76-45B9-96D4-929B2BEEF6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F6452B1-35FB-47AB-A163-D1F6677C4A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26F7C0-FC81-4E7B-8A64-8749A32F6E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BB7D3833-597B-4D17-81AF-CCDB51C023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5B09FB1A-7C90-4677-A0B0-58DE958775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BC1B6BA-C430-486B-9A90-EC85AB0C17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F934B920-6F4A-48C3-9833-AF2AF90D128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5A2516B3-9D7A-4E6A-B572-E52A86DFE41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4790ED-8EC2-42D7-9B57-27CD271F99F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B503FD61-8CEF-4E58-9920-877EE16683D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CC5247C-8B94-432C-803F-7C40105CCBB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E9AF5B69-1AF2-4FA5-AF08-A3CE33D44BB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612F9B22-0E77-4035-A5D9-E7773BD9BDA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8CD25D1-F4ED-4BFA-BF38-CD9DD3A332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3DF1AD76-8172-4C9C-B832-48F5356296F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F9893DC4-A5F9-411D-A9BF-85B7F58D083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6970FD7E-2551-4DA1-9E9D-A92F6E811E0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D589E3C-F980-475F-91E9-2C967DFEB2F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CBAA45D-E886-41D6-A619-930AE1C5D210}"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547B71-AE12-43A1-B4A5-1DBE4B05B4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7DD5A1E3-0F84-4CF2-AACF-3097E60280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7B24AA91-5AA0-452B-AB69-26E9E06911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0F67D648-E818-4732-9558-A7DD274BD7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906047C9-8DA5-4CFA-8157-A2B2320476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616</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4-09-11T17:48:43Z</dcterms:modified>
  <cp:revision>320</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