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E654469-8095-467E-88F6-48BF120FC1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A7E436FD-313A-46C9-8BD6-54DC579F184B}"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881C2821-7291-4B42-A347-BDF14D9AC9FC}"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AF975C-5C8A-4986-AA7E-3A81A49826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2E499-0B1F-43B2-BA94-E4F0F039F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387A21-B3B1-4723-8EB5-E1B734E88C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51AEDD-29D3-41A4-9C90-E63B41DDFB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9EDA6F8-58FB-4302-8167-FF1717F7E6B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3B0FA2D-477D-41A7-A0C8-25A01C0DBE1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EE617D4-E7FC-4DBC-8B00-1A945BFBF22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A6CD0F-4F5B-4716-85D1-2AC42501A12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7EE3139-AE4D-4FFA-8FFD-E8980296DE4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722DF4EE-9ED5-4E89-9F80-FCEA6F4DE29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AB4B16-2CE8-47F2-9454-F859A9509AB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88330-021D-4194-9A56-7BD086BA2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44FAB5-F30C-4D64-865C-5C17B610951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A6BA15-AA75-4840-B1DC-1F4D6F8188B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512BA1-86B8-43E0-90EB-7C7197077E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CF2173B-45FE-4FCD-B0C5-6B7CE0568B5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9D526E7-C441-4985-AD32-4A31C66230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CA79C-FB77-4A7A-BB04-56E4CC1F2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DC1B6-6D56-40EB-BDCE-4637B62A6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582FA-7EA4-475F-9610-F0EEEBFA3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13AED-3599-4F7A-A3CB-F75012C0F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8313E-647B-4F5B-97E0-E4153BCBE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CC18E-2F7B-4C1E-896E-35854D309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DD1FC-A666-40BC-B51D-50C02C1D7D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4D789130-A933-4723-8424-35FE200AE7E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F0A95D99-5C04-47F4-8356-72EFB15A4B1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615680"/>
          </a:xfrm>
          <a:prstGeom prst="rect">
            <a:avLst/>
          </a:prstGeom>
          <a:noFill/>
          <a:ln w="0">
            <a:noFill/>
          </a:ln>
        </p:spPr>
        <p:txBody>
          <a:bodyPr numCol="1" spcCol="0" anchor="t">
            <a:normAutofit fontScale="93000"/>
          </a:bodyPr>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DAEC26AF-B5E2-4A29-9DE8-8B84744EDF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8BA74731-1C95-4026-B9EF-B36E31BD8F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3FBA2386-CDE5-48AD-B49F-C01209C548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44830308-A160-4FB4-8113-78A9E55AF9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C74EF29C-A546-455F-A317-08FF9F6B3A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8581A3AD-C790-472C-A98C-8F84DE661E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85E813EA-0941-455A-8A97-88E7A9A48C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103AE51C-A891-4CA6-9A78-95CEA40C2D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AC527975-D94A-45BD-895A-97067DC3B6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A68269A6-81D4-4298-B8FA-CB86902DECD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F8791582-B865-42FF-AB7E-0A6E957D29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AB1DB432-54B0-4346-AE14-77EECF936A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F8B11245-F8A4-4A75-B4DA-FCC8C99976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49C33E58-D21E-4B4B-891E-14FD8AC11B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0BA47833-CF99-4C55-82F8-D835589AB4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78815C7-1C45-4F73-BA86-80F306F6F0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751612F-F841-40DF-AB8E-936CB9476D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9D4AE61-3BE1-4DDE-9590-16C4523B01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0E56000-C988-4FD2-B067-5BA55AAE04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9AE6A000-D1FD-43C5-865D-BF1E9C1E86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0724C0CD-1734-4D98-B73C-AAC10EE9AD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ED1CC04-4069-44F3-82F2-FB51D71E67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ADBB0149-D276-47FA-AAFE-20C9E595D69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E9E38D89-28B7-4866-BE91-DC58DF9022A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4568A36-88D4-4333-9312-12FE54BE814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C232474D-897A-4889-93E5-2D616A4D807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8EC7C90-B5C0-498F-9F38-D3EC1409BEE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696B2505-DD8A-4FAF-B35B-296F4D2E11A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75431269-FA36-4C22-8078-138C70874EC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6B7421D-BD1F-45D9-B0EB-6AE80B5D1EC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816A4344-406A-4D48-8BDC-EB785173D8C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CEBD5D16-43CE-4CE0-9BDD-0EF10C9DE7E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E9D34613-F7B5-4E97-864C-10875A0DF4B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7B35695-4FC2-40F8-B71B-6C9DDFD8C7E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A6F4E71-851F-4C0D-8CFE-AE144271B1CB}"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B6D7AA9-B71A-46CD-AFC3-E99C0312BF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5E121BA6-4B0F-4190-B6CD-908FBFA416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8A7FFF93-FF06-45EF-9BD3-6469A4F746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3C13B366-4BB1-4E54-AB9A-BA0EB0DE83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B9A1C4C0-1CA0-4904-83BB-C66AC89A3D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616</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4-09-11T17:48:43Z</dcterms:modified>
  <cp:revision>320</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