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CE7C888-A9FB-42E2-87D5-0F64799563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A2FEFC7-698D-446A-ABD1-7F47016125C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9EE0-101A-45E8-86CF-77CE24364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9CAC-B12E-478F-B720-BC779C64F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1BDF-6FF2-4DE0-8B6C-137DBAF0F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746D-F301-4348-ACA5-CF01E5398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4EDD0F-AA9F-400D-9BD2-1465BB35C32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6E35B6-3A64-4592-B2B3-59C8121ACF6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C2A17A-780C-4CFD-91DA-49C14599755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B83E2A-DB85-40C1-AC9A-1B58029CF69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0A92BD-5497-483E-8B47-1F80D40D6CE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D76A28-2A73-453B-AA91-4F757DE4E92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C85C5B-BCA1-49FB-B9C1-77813FD0E8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5475-AF72-4A32-9280-BF47C22C0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55A583-F9A4-4DB8-B53A-C9CB59DACF0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17383E-3BE9-47AE-AE52-E2AA15BDF02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F91EAB-EC53-4116-894E-C53CFE2085A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B72CBA-542B-4F85-9945-00B67D86A24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810E94-0E29-427E-B2D5-490B79BB0F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06CE-8F56-436A-8991-29252975E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C88F-9F07-4D19-BD5F-CB09551BB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CACA-0368-453C-89AD-4129EC96D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D829-CE93-4EC3-895A-E667C06DA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AB31-4FFE-486D-9A8D-43A6E6AA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AA95-AAF4-4B62-BACF-63954CFD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6B7B-7F20-4BE9-86C5-6D5BB0ED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5EC631C-98D6-4E72-ADEC-9C6F12C1918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Straight Connector 3"/>
          <p:cNvCxnSpPr/>
          <p:nvPr/>
        </p:nvCxnSpPr>
        <p:spPr>
          <a:xfrm>
            <a:off x="336240" y="1385640"/>
            <a:ext cx="8076240" cy="10080"/>
          </a:xfrm>
          <a:prstGeom prst="straightConnector1">
            <a:avLst/>
          </a:prstGeom>
          <a:ln w="57150">
            <a:solidFill>
              <a:srgbClr val="000090"/>
            </a:solidFill>
            <a:round/>
          </a:ln>
        </p:spPr>
      </p:cxn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75363F5-5C2D-4D71-943E-CBB9D108E10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5000" y="1635480"/>
            <a:ext cx="7685640" cy="298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,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0160" y="4278240"/>
            <a:ext cx="6400440" cy="1099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62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McGreg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Brutz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MOVE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6113520" y="6118200"/>
            <a:ext cx="2900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utzman@nps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re are economies of scale for data centers, which drives unit cost of compute cycles and storage steadily downw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t limit, CPU and disk are “free and infinite” on the cloud (OK, not quite, but close and trending that 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ble to flexibly get more capacity when needed, scale back down when not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EAEC3C-3077-43C8-ACF5-076835AF1C7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, change the business model for M&amp;S? Enables rental of simulation services from the cloud instead of buying &amp; installing applications on the desk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an still do it the old way if you like, and own the server software, run on a government 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nalogous to Software as a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S Exchange, Office Web Apps, Google D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C8F863-B8C3-42EF-81CA-E086648973D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 for Sim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9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imulations are different from office applications, especially in usage of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f you send an entity position update, potentially that has to go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other simulation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n a virtual world “My position is (17, 23, 42)” may have to be sent to every other particip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us area of interest management (AOIM) and packet filtering are essential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928BEE-787A-4310-A1C4-A8244DC49DC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70344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264672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475308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4"/>
          <a:stretch/>
        </p:blipFill>
        <p:spPr>
          <a:xfrm>
            <a:off x="6891480" y="1937160"/>
            <a:ext cx="1417320" cy="1417320"/>
          </a:xfrm>
          <a:prstGeom prst="rect">
            <a:avLst/>
          </a:prstGeom>
          <a:ln w="0">
            <a:noFill/>
          </a:ln>
        </p:spPr>
      </p:pic>
      <p:cxnSp>
        <p:nvCxnSpPr>
          <p:cNvPr id="124" name="Straight Connector 9"/>
          <p:cNvCxnSpPr/>
          <p:nvPr/>
        </p:nvCxnSpPr>
        <p:spPr>
          <a:xfrm>
            <a:off x="1416240" y="4281480"/>
            <a:ext cx="6203520" cy="36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cxnSp>
        <p:nvCxnSpPr>
          <p:cNvPr id="125" name="Straight Connector 12"/>
          <p:cNvCxnSpPr/>
          <p:nvPr/>
        </p:nvCxnSpPr>
        <p:spPr>
          <a:xfrm flipV="1">
            <a:off x="141624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sp>
        <p:nvSpPr>
          <p:cNvPr id="126" name="Rectangle 17"/>
          <p:cNvSpPr/>
          <p:nvPr/>
        </p:nvSpPr>
        <p:spPr>
          <a:xfrm>
            <a:off x="1693080" y="4558320"/>
            <a:ext cx="1123200" cy="471600"/>
          </a:xfrm>
          <a:prstGeom prst="rect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rPr>
              <a:t>(x,y,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584280" y="5388120"/>
            <a:ext cx="8336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a LAN or some WANs we can use broadcast or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prevent having to send out N-1 repeats of the mess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require some pre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20"/>
          <p:cNvCxnSpPr/>
          <p:nvPr/>
        </p:nvCxnSpPr>
        <p:spPr>
          <a:xfrm flipV="1">
            <a:off x="3353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29" name="Straight Arrow Connector 21"/>
          <p:cNvCxnSpPr/>
          <p:nvPr/>
        </p:nvCxnSpPr>
        <p:spPr>
          <a:xfrm flipV="1">
            <a:off x="5459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30" name="Straight Arrow Connector 22"/>
          <p:cNvCxnSpPr/>
          <p:nvPr/>
        </p:nvCxnSpPr>
        <p:spPr>
          <a:xfrm flipV="1">
            <a:off x="761940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ED7F8C-B4E1-497E-B9E9-193BEFF3E62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2956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 web networking technologies t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s no broadcast or multic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. Everything is un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bsockets (TCP), WebRTC (UDP) JavaScript in the web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means other techniques needed for Area of Interest Management (AOIM) or Data Distribution Management (DD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e can’t always rely on networking gear to do this for us, as with broadcast or mult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A67550-7398-4C47-AA0B-9D1CB2AEB32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0760" y="1525320"/>
            <a:ext cx="8537040" cy="1997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is moves the needle away from peer-to-peer architectures (classically DIS and HLA) and towards client-server archite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eer-to-peer (P2P) sharing schemes often rely on broadcast and multic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823040" y="3792960"/>
            <a:ext cx="4880160" cy="292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B2E2DA-A503-48AB-9EED-278A3155F05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 all the packets are flowing through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server, then that server probably can’t handle it all. That’s the bad news.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have infinite CPU and disk on the server side, because that’s on the cloud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we parallelize across multiple hos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can examine each packet and make decisions about what to send to each client. This reduces the bandwidth used and client loa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us design of overall network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CEAF30-51E5-4D4A-BD15-2947A936A3B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484080" y="2342880"/>
            <a:ext cx="1596240" cy="1596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imgres.jpg"/>
          <p:cNvPicPr/>
          <p:nvPr/>
        </p:nvPicPr>
        <p:blipFill>
          <a:blip r:embed="rId2"/>
          <a:stretch/>
        </p:blipFill>
        <p:spPr>
          <a:xfrm>
            <a:off x="5976000" y="1503720"/>
            <a:ext cx="682920" cy="12308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3203280" y="4233600"/>
            <a:ext cx="2007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an be cluste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7015680" y="1685160"/>
            <a:ext cx="2159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lustered) do D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computer.png"/>
          <p:cNvPicPr/>
          <p:nvPr/>
        </p:nvPicPr>
        <p:blipFill>
          <a:blip r:embed="rId3"/>
          <a:stretch/>
        </p:blipFill>
        <p:spPr>
          <a:xfrm>
            <a:off x="377640" y="166248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computer.png"/>
          <p:cNvPicPr/>
          <p:nvPr/>
        </p:nvPicPr>
        <p:blipFill>
          <a:blip r:embed="rId4"/>
          <a:stretch/>
        </p:blipFill>
        <p:spPr>
          <a:xfrm>
            <a:off x="377640" y="359676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"/>
          <p:cNvPicPr/>
          <p:nvPr/>
        </p:nvPicPr>
        <p:blipFill>
          <a:blip r:embed="rId5"/>
          <a:stretch/>
        </p:blipFill>
        <p:spPr>
          <a:xfrm>
            <a:off x="6015960" y="3006360"/>
            <a:ext cx="715680" cy="715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1"/>
          <p:cNvSpPr/>
          <p:nvPr/>
        </p:nvSpPr>
        <p:spPr>
          <a:xfrm>
            <a:off x="7004520" y="3100680"/>
            <a:ext cx="127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383760" y="561240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Connector 15"/>
          <p:cNvCxnSpPr/>
          <p:nvPr/>
        </p:nvCxnSpPr>
        <p:spPr>
          <a:xfrm>
            <a:off x="2653560" y="1503720"/>
            <a:ext cx="16920" cy="487224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sp>
        <p:nvSpPr>
          <p:cNvPr id="149" name="TextBox 16"/>
          <p:cNvSpPr/>
          <p:nvPr/>
        </p:nvSpPr>
        <p:spPr>
          <a:xfrm>
            <a:off x="2849400" y="5982480"/>
            <a:ext cx="6239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oud (server side, free and infinite CPU and sto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8" descr=""/>
          <p:cNvPicPr/>
          <p:nvPr/>
        </p:nvPicPr>
        <p:blipFill>
          <a:blip r:embed="rId6"/>
          <a:stretch/>
        </p:blipFill>
        <p:spPr>
          <a:xfrm>
            <a:off x="6015960" y="3939840"/>
            <a:ext cx="839520" cy="8395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9"/>
          <p:cNvSpPr/>
          <p:nvPr/>
        </p:nvSpPr>
        <p:spPr>
          <a:xfrm>
            <a:off x="7007040" y="3911760"/>
            <a:ext cx="1881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aps, o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 data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0" descr=""/>
          <p:cNvPicPr/>
          <p:nvPr/>
        </p:nvPicPr>
        <p:blipFill>
          <a:blip r:embed="rId7"/>
          <a:stretch/>
        </p:blipFill>
        <p:spPr>
          <a:xfrm>
            <a:off x="5969520" y="5059800"/>
            <a:ext cx="845640" cy="8456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1"/>
          <p:cNvSpPr/>
          <p:nvPr/>
        </p:nvSpPr>
        <p:spPr>
          <a:xfrm>
            <a:off x="6977160" y="5059800"/>
            <a:ext cx="222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sting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01F11E-43E0-4383-ACCF-9F20ABD3FDE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clients connect over unicast, send and receive all updates unicast, resulting in fully connected me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ll updates go through the server side and can be examined on the server side – total vi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xisting simulations and protocols can be connected via bridges, tunnels and conversion gate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DM/AOIM packet chores can be spread across multiple CPUs on the cloud side. This lets us do elaborate and computationally expensive DDM on the server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MS PGothic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PU efficiency is not important on the cloud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ven with all that, it still doesn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 address latency well.  See Loren Peitso work on networked physics &amp; Defeating 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C25ECF-2B04-44C5-A5ED-A083CC554C5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lexibility is more important than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cripting languages such as JavaScript are flexible; use this for a DDM language? NodeJS? Javascript executed from Ja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erhaps the client can generate the filter scripts for the packets it desires and send these to 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nknown: what is the effect on latency? Needs an instrumented example to 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66F681-DDF7-4EF6-8CFD-434A9FE7C02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ig-picture question: what does SAAS actually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Understand the problem, which may be m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are simulations currently deploy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will they be deployed? Got standa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.g. can we use World Wide We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hat are the impacts on scaling up simulations to the breadth that we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Hmm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7308AC-BE13-46AA-8EE0-6047BF4CC0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is oriented towards DIS, but exactly the same problems occur in HLA; therefore RTI implementations for the Web will face the same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Likewise with WebLVC and other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 benefits of cloud-based simulation are likely to be so compelling that 25-year-old assumptions about P2P DoD protocols may need to be rethought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82FF54-23D7-44B1-8852-6286EFC04AD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n gene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, the superior economics of the cloud and web-based simulation drive simulation to client/server over peer-to-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ossible issues with bandwidth, latency mean likely limited to ashore and small-to-medium virtual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ashups with open source internet data sources—live feeds, map data, GIS data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MS PGothic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Optional changes to business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—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y v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r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ent simulatio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Plenty of techniques for having existing and web-based sims co-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t’s a worthwhile research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C3D811-2DA2-441E-8863-4CD78515160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ortfalls and Pitfalls Contin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079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Repeated topic but current status unclear: actual usage, deployment of SAAS at SISO in current and emerging pract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https://www.sisostds.org/Workshops/TracksForums/Services,Processes,Tools,andData(SVCS)Track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arriers and limitations: typically assumes common infrastructure, which generally isn’t happening except in limited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ecast: use of Web standards for data mashups and browsers as 3-tier “front en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9D538F-5643-4BC1-BF85-9494822DC77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172160" y="1763280"/>
            <a:ext cx="6316920" cy="459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8007DB-B8D4-4C25-92AD-E09E113CBDB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713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mpiled C++/Java code installed on a desktop or LAN following license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desktops are mostly local network, or possibly multiple-site but directly connected via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n exploit broadcast and multicast — the networking gear helps scalability, usually because they are all on same LAN/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33E4E1-599A-4A30-8B15-4EBD7E0CEB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98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and inflexible to deploy such licensed desktop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to upgrade or even just update the same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igh management costs are ongo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pgrades are slow to come because of the above (often multi-year product life cycl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consistent systems, programs, training across larger enterprise add lifecycle co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88A9DF-C4B4-42AD-8697-9A9B7F67557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a classic three-tier architectu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0" y="1649520"/>
            <a:ext cx="9143640" cy="3404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4426920" y="5139000"/>
            <a:ext cx="351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re Assets, possibly on 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Connector 9"/>
          <p:cNvCxnSpPr/>
          <p:nvPr/>
        </p:nvCxnSpPr>
        <p:spPr>
          <a:xfrm flipH="1">
            <a:off x="2865240" y="1649160"/>
            <a:ext cx="98280" cy="4707360"/>
          </a:xfrm>
          <a:prstGeom prst="straightConnector1">
            <a:avLst/>
          </a:prstGeom>
          <a:ln w="50800">
            <a:solidFill>
              <a:srgbClr val="ff0000"/>
            </a:solidFill>
            <a:round/>
          </a:ln>
        </p:spPr>
      </p:cxnSp>
      <p:cxnSp>
        <p:nvCxnSpPr>
          <p:cNvPr id="102" name="Straight Arrow Connector 11"/>
          <p:cNvCxnSpPr/>
          <p:nvPr/>
        </p:nvCxnSpPr>
        <p:spPr>
          <a:xfrm>
            <a:off x="2865240" y="5323320"/>
            <a:ext cx="118908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03" name="Straight Arrow Connector 12"/>
          <p:cNvCxnSpPr/>
          <p:nvPr/>
        </p:nvCxnSpPr>
        <p:spPr>
          <a:xfrm flipH="1">
            <a:off x="1481400" y="6062040"/>
            <a:ext cx="138420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04" name="TextBox 15"/>
          <p:cNvSpPr/>
          <p:nvPr/>
        </p:nvSpPr>
        <p:spPr>
          <a:xfrm>
            <a:off x="468360" y="5259240"/>
            <a:ext cx="154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484920" y="6220440"/>
            <a:ext cx="1563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Fac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F51457-F6D9-4622-A7D2-0C25A772F39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2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business trend is to use web-based applications rather than desktop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ast deployment of new software—update once on server, use on web browser, faster life cycles (sometimes days or ho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uch che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xploit cloud on server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bile devices welcome, agile across multiple architectures (Linux/Windows/Android/IOS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Less capable than compiled applications (though performance difference is not as bad as you might th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ome UI issues since it’s running inside a web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HTML5 helps, X3D Graphics standard also very cap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1350DB-6556-406B-8FB7-33B28984647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s of this are compelling, as a quick survey sh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ew write desktop mail applications anymore—i.e. instead use gmail, Google Calendar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s are mostly web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gle Docs &amp; Office Online vs. MS Office Desktop (limitations of the gen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D7A9A7-F1BD-43D2-9ED7-C2E2022874C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110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ne thing that makes web apps compelling is economics of the c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67440" y="2702520"/>
            <a:ext cx="7619400" cy="395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C7C492-1766-4125-9D39-F1775E41850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item1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2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01563373756CE4D8A3D6FB421EA66FC" ma:contentTypeVersion="0" ma:contentTypeDescription="Create a new document." ma:contentTypeScope="" ma:versionID="11fbabed02a6ed1c331ac1899bd0631f">
  <xsd:schema xmlns:xsd="http://www.w3.org/2001/XMLSchema" xmlns:p="http://schemas.microsoft.com/office/2006/metadata/properties" targetNamespace="http://schemas.microsoft.com/office/2006/metadata/properties" ma:root="true" ma:fieldsID="4aeb20c0e3442673af7ee10786458764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office/internal/2005/internalDocumentation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 ma:readOnly="tru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lastPrinted" minOccurs="0" maxOccurs="1" type="xsd:dateTime"/>
        <xsd:element name="contentStatus" minOccurs="0" maxOccurs="1" type="xsd:string"/>
      </xsd:all>
    </xsd:complexType>
  </xsd:schema>
</ct:contentTypeSchema>
</file>

<file path=customXml/itemProps1.xml><?xml version="1.0" encoding="utf-8"?>
<ds:datastoreItem xmlns:ds="http://schemas.openxmlformats.org/officeDocument/2006/customXml" ds:itemID="{FCC75706-2E43-4917-B7AE-A681D046FD5E}">
  <ds:schemaRefs>
    <ds:schemaRef ds:uri="http://schemas.microsoft.com/sharepoint/v3/contenttype/forms"/>
  </ds:schemaRefs>
</ds:datastoreItem>
</file>

<file path=customXml/itemProps2.xml><?xml version="1.0" encoding="utf-8"?>
<ds:datastoreItem xmlns:ds="http://schemas.openxmlformats.org/officeDocument/2006/customXml" ds:itemID="{54E0CCA3-6762-4D5B-A3ED-EBE58DEAA8DD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internal/2005/internalDocumentation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MOVES_Template.potx</Template>
  <TotalTime>6742</TotalTime>
  <Application>LibreOffice/7.4.7.2$Linux_X86_64 LibreOffice_project/40$Build-2</Application>
  <AppVersion>15.0000</AppVersion>
  <Words>1308</Words>
  <Paragraphs>140</Paragraphs>
  <Company> NPS/MOVES Institut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21:17:32Z</dcterms:created>
  <dc:creator/>
  <dc:description/>
  <dc:language>en-US</dc:language>
  <cp:lastModifiedBy>Brutzman, Donald (Don) (CIV)</cp:lastModifiedBy>
  <dcterms:modified xsi:type="dcterms:W3CDTF">2023-06-05T02:41:33Z</dcterms:modified>
  <cp:revision>173</cp:revision>
  <dc:subject/>
  <dc:title>MOVES R&amp;E Summit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01563373756CE4D8A3D6FB421EA66FC</vt:lpwstr>
  </property>
  <property fmtid="{D5CDD505-2E9C-101B-9397-08002B2CF9AE}" pid="3" name="Notes">
    <vt:r8>1</vt:r8>
  </property>
  <property fmtid="{D5CDD505-2E9C-101B-9397-08002B2CF9AE}" pid="4" name="PresentationFormat">
    <vt:lpwstr>On-screen Show (4:3)</vt:lpwstr>
  </property>
  <property fmtid="{D5CDD505-2E9C-101B-9397-08002B2CF9AE}" pid="5" name="Slides">
    <vt:r8>22</vt:r8>
  </property>
</Properties>
</file>