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74A58A-7BBD-46B1-8128-D0535053E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5E77AEF-2FC6-4917-93C4-ED649A7E184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D95F-A134-464F-9F01-40F69F197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BB6A-B01F-46D0-A9A0-FAEB911B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196C-DE42-4CB2-B841-067C15EED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8D62-D78F-4EE7-88EE-74775AD27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F1757-AE3F-44B1-9BE9-0EA766016F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31A7A-E922-462A-8096-9DADD48551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A8650-6775-44AE-92C8-9C6559B1E2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25BA4-57BA-41FB-9BF4-48A7CB805A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F79BF-D21E-407D-AA40-763BAB7271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72C864-F048-4AE5-B15B-54151D7B19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5B7F13-DFEA-4E0E-A5ED-2424B9F24B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C292-F72E-4F7F-AED7-1DEB0EC6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35E562-B940-49FD-BCD5-8086BCCAF0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38FC0-27AC-4867-A7B5-259294D4E3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B5F72-2562-4C18-A9CF-B5C7FACB9E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ED160-D521-40A2-B1BD-8831950524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8211B0-EDBB-4199-9E95-B5D03D979E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C8DB-2435-4207-96DB-B48BCC5C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95E5-F87D-42C7-8822-2C81CFDA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8FA9-43E0-4DA9-95D0-E936F681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D89A-65C6-4734-915D-A4580724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FC0F-387D-4DC1-9ADE-5BDB5143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F820-8878-4E77-A317-69B729E1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8CEA-53BE-40FA-B614-D3E5EAA4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46BA33B-F62F-4EEA-A018-105F120D66E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1BBF14-B6BB-4825-BA1D-898C77D358B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0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36D3D-40C3-489A-8A83-1D29DFBEB1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04E53-1995-45D5-AF26-3AB36AEEA5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E4D78-79DD-4E6F-A044-5223CB61E2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85DF9-B219-43B3-8493-97971BE36B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4515B-27B8-4689-A506-16BAEC949D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872C3-C63F-4CE0-A142-C458E4018E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A7D03-2861-4E90-B4A6-11403A9261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0C9CA-66BF-40C5-9706-F373496FCF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3608B-9ED6-407F-B9A6-6B6C978657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7E3A2-CFC2-4DC0-8748-64CEAB54EB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617CD-FE47-48B4-8241-A0DAF1BEF8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A1FA0-56F1-4245-A35C-25056A1EA1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6282B-CDD9-462F-967A-9B76A637EC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ODO: review actual usage, deployment of SAAS at SISO in current, emerging 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AADA3-C9FC-4962-858E-736E7A0D2F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8BAFC-9C81-4A52-928F-EE53574BC1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41A04-21D3-4F67-B3DC-D70F103B47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575BB-97FE-4070-8992-9AECD87A13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ABF7B-EB38-4E2A-BD1F-567BE80E80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748DE-E729-40C5-BD6A-88A0ECBE9C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CC723-53A3-4379-9C6A-DEA38A0EF5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A7A3D-71B7-41F1-9359-00A9910FAA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2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19</TotalTime>
  <Application>LibreOffice/7.4.7.2$Linux_X86_64 LibreOffice_project/40$Build-2</Application>
  <AppVersion>15.0000</AppVersion>
  <Words>1279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1-09-08T00:30:55Z</dcterms:modified>
  <cp:revision>172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