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2425F0E-E1FD-4FC7-B8D5-4C184C4C7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FEA0FC3F-CB89-45B9-9495-D0607E145B8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70AF20E-0575-45FD-9AEF-872261A127C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ED5D8-41E1-4263-9CF0-590D20059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BDFC4-FE98-4BAE-B7AE-F6D3F898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F3142-8DAD-4C4E-98FF-69C9C6A25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199F9-63B6-42CD-8E99-43C8EE257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214112-7077-4FFF-973C-A25649898D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8968C0-7C88-4774-8B43-AC1609A612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1B2B36-19F7-4E11-A250-BD0B8921D7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5D2952-7F8C-4029-88FB-285A256B4C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724ACC-82FF-442E-B244-5F31A16669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A970CE4-9D22-40D5-804A-FE42746BA5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930CC0-2C65-449F-A15B-084FB8596A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9164E-506D-40AF-B66B-4B9BE8D37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4D79C-35D3-4D97-82E3-A5B2D5F863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E8804-E917-4ACD-8F64-733A4AA1B8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44809-7186-4478-91E8-E738D598C1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2F577E-B8AE-437F-A614-CFC93AF161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013352-4117-4EEA-B3CB-F12A96B5A5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DFEA4-13BB-4B7A-A686-E744F653B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23582-EBEF-4802-8DBA-CD0794510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B4C9E-B8D1-4CCE-B799-CD44C3150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DC946-57C5-49B4-837E-B59DA2179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A33D-4358-4E5C-B1E2-68C48D88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288B-811D-458C-8E96-2F540A31A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687E-1AA2-4221-AAED-506029680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444A58A-A07F-4A2C-940B-85529AE2D23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3D4450B-D296-44D4-9D0E-E9CDE4FC2C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F06C561-623B-40CA-9E32-2395A029A9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70E2639F-44A8-4F37-A836-BE5C66FAC3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D9817BE-2531-4F05-BCF1-3134227325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B206A9C-2B6D-405C-8554-D04A188EF6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048AA22-5A09-4DF9-9241-B14C310313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3D6B61E-9F66-44A4-954C-57310DC3A5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93A21DE0-0307-4C01-B378-8B721278D5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CB820D3-8EA8-4F70-ABB6-E07056F70F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0B19E940-8471-4166-AB64-E77454D04B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D3145594-73C9-49F2-B7C0-9355FB35E1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56CB3647-5F7D-4034-B6E6-6978AE12C3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10DC67C-0E23-4619-A14E-21E40DEFE8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D15000D-CD9C-4B60-A9A5-488E598EB8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B6C7E8C-2D20-4982-90C5-DE8AF1B368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6EEC6C95-2887-4426-ABFC-D1E55589A2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6EA785-4548-41F1-B5DF-5A7FB41D40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E988BB-8A0F-48D8-9E8C-84516658FD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side of the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Networking</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Management</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Comput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lternative but provides a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F7FB9C-B01E-42BD-98D6-30F8DB911B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66604C-7537-41A9-ADFC-0B98CD9218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ED1A1BD-CF8D-445B-AD89-98BA9240D9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B45D667-C02B-471B-9D72-03938C557B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5459C9-F565-4EFE-A4B3-169EFB76A3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A4B2C94-F239-48CC-A5BC-A0488DFF18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511D745-8D14-4F11-AE9E-834DC3CAE7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D90E09-155E-4B6A-BA89-BD0E784733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01380C9-78FF-47F1-965E-6CFCB39794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AD1222-B325-4B44-8DAF-89044841FD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3F19B98A-CCC9-4FCD-83AA-5805C0F803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CE12E93-46B9-43E3-8024-BEAE7FC56D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D125A3-BEAB-492B-9DDE-F78C8DC730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38811A4-2A80-4725-8147-B7662F1572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1412F64-9E67-448C-BC8D-DF278F81A0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54837827-BE80-4028-9F2D-C54A55503A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A74C26-52B0-489E-A593-0318B18374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F2A1F-3976-46E3-84CB-3BDA492ADC7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961697-F230-4567-ACD3-A698146F56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A200FC8-01DB-49F6-BF35-874204F48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74CD673-AB44-4EA1-8AE7-0372C19B7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F6A0FDC5-EAA2-46BC-9B60-68969783FA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69ECACC-D750-4305-B88B-00A8E48C8B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2.xml><?xml version="1.0" encoding="utf-8"?>
<ds:datastoreItem xmlns:ds="http://schemas.openxmlformats.org/officeDocument/2006/customXml" ds:itemID="{FCC75706-2E43-4917-B7AE-A681D046FD5E}">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60</TotalTime>
  <Application>LibreOffice/7.4.7.2$Linux_X86_64 LibreOffice_project/40$Build-2</Application>
  <AppVersion>15.0000</AppVersion>
  <Words>2739</Words>
  <Paragraphs>256</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1-09-07T17:15:52Z</dcterms:modified>
  <cp:revision>318</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