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15163B8-7AE7-4B2A-9BB4-CEE8F5CD0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9C07D1B-1A15-4BC7-A9BF-688EC7A5F28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29228277-E8C2-4560-BF16-1EBAD8EBB7F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B6B60-F580-49AA-88A9-A0ACAF0D4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EDC76-E416-4B54-A018-6BBBFDE91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57466-F437-4C4B-808A-53173E6C4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CF5DD-827F-44EB-B264-3F251DCCF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C3CB9C-9D4B-4795-A863-60117AE088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E5C2E6-2B80-45B5-954D-347AD3D0DF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1E3D29-4F61-4868-9396-A39458590C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840D95-73E4-461A-8035-F4A6AB34C9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DA0E84-48DD-4100-9C47-3C4B0BB8D3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4DC3A3E-A059-4D97-A228-896B9E31C9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D1EFA-D610-4A45-A285-7EB65A7319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A259-464C-4618-A844-273D914C6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E6BD5-0D37-45C7-AFD9-FCB2943180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4228B-1629-4F1F-8273-C27AE15567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5E91FA-B273-440D-A2CE-E01A1B693E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F1B560-34F1-43BF-A035-178F175898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01C52B-A233-42C4-AD49-D4CBEC216D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4DB2E-5A60-4925-9CED-0E9B36F17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C788-8EFC-4C9F-9190-D7D36B101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57C04-92EC-43D7-BD51-24A0D66E9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93173-D065-437A-80F4-506A1EE04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893B1-CB72-4895-84D2-D6D4E9A0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E02C-3B7E-4592-A7D8-3D6758F99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5C18D-E144-4CEA-BC84-5FA75E2E9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C7B32FF-F90F-4D39-BC85-DC190845768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B4495587-30EC-494E-9C07-59DBBEA39BC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50455EB2-F85A-4FC9-9D08-DCE7FA141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CE3192F9-D5B3-4FAD-8585-4380B5FDF7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10034BE-4C34-446C-8867-2291889C80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A7D13A1-D7B4-46DB-B988-DDFEBE1D7B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7308B8A-CD20-4DA0-8E9E-9B01DDD036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215A27C-FE02-4FA8-AF82-7DDA8C8024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7C453054-0A08-4CE8-9AC2-4782C89A79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A0FC74A0-7DCC-4D75-B4CD-C6C1139497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99BECDB5-4EEB-44C2-9088-3BE085A665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011CA1FF-D66B-4A5C-84AE-04FFC947AC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D0476476-E0CF-436D-A772-E3E0D66A5F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29630C6-E410-4E7F-9565-6A4EF7654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5758436-E5E7-4204-8FDC-79565673DB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332EA65-CBF7-425D-AB72-0E030D5462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7B63759-5EF2-4419-AB44-E7757F67E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B542C5-35DD-4D63-8454-56F973AE63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9FD6D0-E4D8-4573-83DF-09C6AE236A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side of the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Networking</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Management</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Comput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lternative but provides a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8DA48C-9385-4E47-A06E-88362CB4F4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21D87C-F942-452D-B2AD-075603FCEA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16BE0D2-39B4-4C28-8042-4BC9A07113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7CDA3BD-91D9-43D3-9BDC-E75E91E404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79C7F2-2F1E-41CC-B530-E4F72CD300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BD7E2F2-79E1-4BE6-B85B-A9CD1C077B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CC78774-EAFA-4FF0-8C78-56A18A45CE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389149-EC24-49FD-84DA-56A2F5947F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B62A0F0-B3AB-44AE-996C-1D50B70DD7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2F04FA-6166-4A41-85C8-0707CBE734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68E07904-33DA-4719-9DE2-E486C538F9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CCCB5DB-60F5-4D58-A99F-2C3F383F57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9C54D8-03F3-4AED-856D-5969C2B523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C4E79249-FC17-463A-B842-400F9A0499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61A3788-F5A1-423E-A376-D934C498D2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F0EB41DA-1C7D-4E30-AB25-F6CB02EC70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49ADE1-F29B-4E86-AE1F-E15BE9153A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6281FC-C8EF-4B08-80F1-1835F5B37B5D}"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BE9CAD-7B9A-4179-816B-EAD6E0C05C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D0C9A86A-A0E6-4F67-A8CF-2C832008EC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AA43250-5766-4F68-8B3F-362C873BE7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20D04B53-BA01-423B-8EAA-DB87CC9423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D0BF031-9121-4890-B752-85CCE343D5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customXml/itemProps2.xml><?xml version="1.0" encoding="utf-8"?>
<ds:datastoreItem xmlns:ds="http://schemas.openxmlformats.org/officeDocument/2006/customXml" ds:itemID="{FCC75706-2E43-4917-B7AE-A681D046FD5E}">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60</TotalTime>
  <Application>LibreOffice/7.4.7.2$Linux_X86_64 LibreOffice_project/40$Build-2</Application>
  <AppVersion>15.0000</AppVersion>
  <Words>2739</Words>
  <Paragraphs>256</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1-09-07T17:15:52Z</dcterms:modified>
  <cp:revision>318</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