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D5B560-A647-4541-AC93-57F896945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989E1A-F547-4B1E-AEE0-7F06D5339C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AF6-7612-424A-A96F-F942A5DD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C10-35B5-4C43-9F07-60139CD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8F0-0CA8-47B5-BFBA-267980B7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E230-2A8B-4BA8-A7D7-FE7A8D22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C824F-CDE6-48D2-B33A-DB99EA12A1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75F9-4777-49DC-A165-BB2B1968D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BD009-ED51-4A11-A7F8-7F5E476EC1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7D006-4E99-441D-9C25-A338CCBC22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90975-D552-4C62-B21E-48D2EC1657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373D2-A0D1-4C11-82CA-20451C8965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FA983-FD9D-4B4E-BBAC-8D9CF05B2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7AE-B711-4CD0-8A3A-52FAC6B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D5E18-4685-40A8-9AD2-79A9B5034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6E389-7E3D-4295-910B-3DAB06666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C7301-8CAC-44E1-AA6A-C3C6D3460B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7F990-68F6-4E59-B2BE-BCBD1E3B50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EF5A4-7543-4F86-BE71-32D05A52BF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B85-31C5-470D-9FB5-D944E3FE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48A7-957D-41EE-A4E7-817A6E6D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B6C-B502-49EB-A63E-502FD6E3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EAA-9D54-4A28-B7AE-62F5AD36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59E-4082-44DD-8886-054A8FF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6DE-FBD4-4AF1-93BF-A0C350E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35F-31D6-4744-BF77-8F6D2AE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5B5511-0DEF-48C2-88CB-E9BDF5699D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9A64A7-0AF0-40C5-900B-B69483398F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E2437-EDAE-4A7E-9E11-3BEA92E4D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0B5D0-5815-4BB7-804D-38335D3DA1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FA92A-5C05-436F-884D-64C5DC4D7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FA0CE-159A-4856-97AB-A43DD36F1B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5EFF4-9ADB-429C-9763-CD04CD775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7A28C-0FEC-484B-8816-43B1E9B9E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62FC-8D75-40FF-95E7-EC19EFCA4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AA66B-B652-44FC-B0FC-56271FADF2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DBE77-1D4C-4FF6-ACFA-2432913EEB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B72A6-4726-4A9C-BC9C-9ECF529E2D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3229-E8D7-4B57-8DDD-D2B213561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08AD7-1871-4242-A550-E1878DAB5A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B5337-84C2-4A12-8462-803A4F806F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ODO: review actual usage, deployment of SAAS at SISO in current, emerg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D0191-0BEF-4F40-BC76-437E7437F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62C0A-C562-40CB-928A-B2F3C41DF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89CB4-495B-4426-B5E9-0DDB3F54D9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18FCA-DF03-4659-9FA7-2CFED7B8A7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6299E-D8E6-4BD3-A9F5-F18D3EE7C8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119B7-1AB2-4F0A-BE29-8BBED8EDA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2A700-6E4B-4CFC-A878-FDC2D5530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E5887-06A8-4ED0-8D8C-E6A227EFBC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19</TotalTime>
  <Application>LibreOffice/7.4.7.2$Linux_X86_64 LibreOffice_project/40$Build-2</Application>
  <AppVersion>15.0000</AppVersion>
  <Words>1279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1-09-08T00:30:55Z</dcterms:modified>
  <cp:revision>172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