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CD34CF9-34F9-46C0-925D-0896B2FAF4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17E04A8-2491-4B85-B5FC-DB642931CC4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25D2-D9B3-44E6-951C-CD4775F05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A633-669F-444E-BC27-9C7E9F672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790A-AB0A-41DB-9ABF-16D808241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8C57-C026-4367-A64F-25DA3597F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44A2A8-AD39-42CA-B84E-54837DCCE8E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26A266-A74F-4D1C-8CF6-E455192067F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C9854B-5406-4309-A39E-D0DAE8ED56B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6AB07B-2A2D-40A4-93A5-A73127A06B4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3A0890-038B-4860-A955-F9F28A8D469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10AB43-71C3-4E83-A20D-3B16CD100B4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2DE7CC-0DA7-49CE-A605-7038D493F9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93A3-5D8D-41A9-AFC3-F7C5075E6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8416D8-1494-4454-ADE3-E1895176345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A62F02-29D5-426F-B0F2-D7A35503833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2123F7-F932-4603-9E1D-B12B87ED72E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48314B-9C16-4941-A4AE-C2008A1A659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1A6101-2D04-4E92-9C89-DA648E286C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01DB-A36A-46BD-9F0E-081487436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4479-89AB-415C-A6FF-31C3BFD31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E691-A0DA-4B32-B3C4-EA1E1CF8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B71D-129C-47F4-B1EC-DFF238A9E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5462-4E7A-41A3-BBDB-892A1EBB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AC21-3E90-4868-9C88-35282696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2D4F-FF3D-4A85-B205-EE160A9F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3BCABBC-E6C4-4C48-BF1D-213D8963900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Straight Connector 3"/>
          <p:cNvCxnSpPr/>
          <p:nvPr/>
        </p:nvCxnSpPr>
        <p:spPr>
          <a:xfrm>
            <a:off x="336240" y="1385640"/>
            <a:ext cx="8076240" cy="10080"/>
          </a:xfrm>
          <a:prstGeom prst="straightConnector1">
            <a:avLst/>
          </a:prstGeom>
          <a:ln w="57150">
            <a:solidFill>
              <a:srgbClr val="000090"/>
            </a:solidFill>
            <a:round/>
          </a:ln>
        </p:spPr>
      </p:cxn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090210F-7420-4631-956D-A878911B459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5000" y="1635480"/>
            <a:ext cx="7685640" cy="298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,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0160" y="4278240"/>
            <a:ext cx="6400440" cy="1521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88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Brutz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McGreg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MOVE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6113520" y="6118200"/>
            <a:ext cx="2900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utzman@nps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re are economies of scale for data centers, which drives unit cost of compute cycles and storage steadily downw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t limit, CPU and disk are “free and infinite” on the cloud (OK, not quite, but close and trending that 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ble to flexibly get more capacity when needed, scale back down when not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937C7D-67A1-4DBC-87AD-EAA3BE3AA26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, change the business model for M&amp;S? Enables rental of simulation services from the cloud instead of buying &amp; installing applications on the desk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an still do it the old way if you like, and own the server software, run on a government 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nalogous to Software as a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S Exchange, Office Web Apps, Google 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E719D4-DC18-48C0-A0C3-626C48A8C7F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 for Sim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9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imulations are different from office applications, especially in usage of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f you send an entity position update, potentially that has to go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other simulation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n a virtual world “My position is (17, 23, 42)” may have to be sent to every other particip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us area of interest management (AOIM) and packet filtering are essential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D3D38C-5744-4C61-BEAD-F9938F473C2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70344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264672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475308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4"/>
          <a:stretch/>
        </p:blipFill>
        <p:spPr>
          <a:xfrm>
            <a:off x="6891480" y="1937160"/>
            <a:ext cx="1417320" cy="1417320"/>
          </a:xfrm>
          <a:prstGeom prst="rect">
            <a:avLst/>
          </a:prstGeom>
          <a:ln w="0">
            <a:noFill/>
          </a:ln>
        </p:spPr>
      </p:pic>
      <p:cxnSp>
        <p:nvCxnSpPr>
          <p:cNvPr id="124" name="Straight Connector 9"/>
          <p:cNvCxnSpPr/>
          <p:nvPr/>
        </p:nvCxnSpPr>
        <p:spPr>
          <a:xfrm>
            <a:off x="1416240" y="4281480"/>
            <a:ext cx="6203520" cy="36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cxnSp>
        <p:nvCxnSpPr>
          <p:cNvPr id="125" name="Straight Connector 12"/>
          <p:cNvCxnSpPr/>
          <p:nvPr/>
        </p:nvCxnSpPr>
        <p:spPr>
          <a:xfrm flipV="1">
            <a:off x="141624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sp>
        <p:nvSpPr>
          <p:cNvPr id="126" name="Rectangle 17"/>
          <p:cNvSpPr/>
          <p:nvPr/>
        </p:nvSpPr>
        <p:spPr>
          <a:xfrm>
            <a:off x="1693080" y="4558320"/>
            <a:ext cx="1123200" cy="471600"/>
          </a:xfrm>
          <a:prstGeom prst="rect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rPr>
              <a:t>(x,y,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584280" y="5388120"/>
            <a:ext cx="8336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a LAN or some WANs we can use broadcast or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prevent having to send out N-1 repeats of the mess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require some pre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20"/>
          <p:cNvCxnSpPr/>
          <p:nvPr/>
        </p:nvCxnSpPr>
        <p:spPr>
          <a:xfrm flipV="1">
            <a:off x="3353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29" name="Straight Arrow Connector 21"/>
          <p:cNvCxnSpPr/>
          <p:nvPr/>
        </p:nvCxnSpPr>
        <p:spPr>
          <a:xfrm flipV="1">
            <a:off x="5459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30" name="Straight Arrow Connector 22"/>
          <p:cNvCxnSpPr/>
          <p:nvPr/>
        </p:nvCxnSpPr>
        <p:spPr>
          <a:xfrm flipV="1">
            <a:off x="761940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FED6F6-7875-43B5-9334-6238C915F83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2956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 web networking technologies t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s no broadcast or multic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. Everything is un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bsockets (TCP), WebRTC (UDP) JavaScript in the web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means other techniques needed for Area of Interest Management (AOIM) or Data Distribution Management (DD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e can’t always rely on networking gear to do this for us, as with broadcast or mult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CDFA1E-C6FE-414E-B65D-55AFF918DE8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0760" y="1525320"/>
            <a:ext cx="8537040" cy="1997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is moves the needle away from peer-to-peer architectures (classically DIS and HLA) and towards client-server archite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eer-to-peer (P2P) sharing schemes often rely on broadcast and multic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823040" y="3792960"/>
            <a:ext cx="4880160" cy="292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45947C-4757-46D7-A217-F77C5B2510C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 all the packets are flowing through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server, then that server probably can’t handle it all. That’s the bad news.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have infinite CPU and disk on the server side, because that’s on the cloud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we parallelize across multiple hos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can examine each packet and make decisions about what to send to each client. This reduces the bandwidth used and client loa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us design of overall network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8D1BD4-E15C-4CDF-B2D1-2FE61507F75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484080" y="2342880"/>
            <a:ext cx="1596240" cy="1596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imgres.jpg"/>
          <p:cNvPicPr/>
          <p:nvPr/>
        </p:nvPicPr>
        <p:blipFill>
          <a:blip r:embed="rId2"/>
          <a:stretch/>
        </p:blipFill>
        <p:spPr>
          <a:xfrm>
            <a:off x="5976000" y="1503720"/>
            <a:ext cx="682920" cy="12308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3203280" y="4233600"/>
            <a:ext cx="2007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an be cluste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7015680" y="1685160"/>
            <a:ext cx="2159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lustered) do D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computer.png"/>
          <p:cNvPicPr/>
          <p:nvPr/>
        </p:nvPicPr>
        <p:blipFill>
          <a:blip r:embed="rId3"/>
          <a:stretch/>
        </p:blipFill>
        <p:spPr>
          <a:xfrm>
            <a:off x="377640" y="16624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computer.png"/>
          <p:cNvPicPr/>
          <p:nvPr/>
        </p:nvPicPr>
        <p:blipFill>
          <a:blip r:embed="rId4"/>
          <a:stretch/>
        </p:blipFill>
        <p:spPr>
          <a:xfrm>
            <a:off x="377640" y="359676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5"/>
          <a:stretch/>
        </p:blipFill>
        <p:spPr>
          <a:xfrm>
            <a:off x="6015960" y="3006360"/>
            <a:ext cx="715680" cy="715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1"/>
          <p:cNvSpPr/>
          <p:nvPr/>
        </p:nvSpPr>
        <p:spPr>
          <a:xfrm>
            <a:off x="7004520" y="3100680"/>
            <a:ext cx="127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383760" y="561240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Connector 15"/>
          <p:cNvCxnSpPr/>
          <p:nvPr/>
        </p:nvCxnSpPr>
        <p:spPr>
          <a:xfrm>
            <a:off x="2653560" y="1503720"/>
            <a:ext cx="16920" cy="487224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sp>
        <p:nvSpPr>
          <p:cNvPr id="149" name="TextBox 16"/>
          <p:cNvSpPr/>
          <p:nvPr/>
        </p:nvSpPr>
        <p:spPr>
          <a:xfrm>
            <a:off x="2849400" y="5982480"/>
            <a:ext cx="6239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oud (server side, free and infinite CPU and sto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8" descr=""/>
          <p:cNvPicPr/>
          <p:nvPr/>
        </p:nvPicPr>
        <p:blipFill>
          <a:blip r:embed="rId6"/>
          <a:stretch/>
        </p:blipFill>
        <p:spPr>
          <a:xfrm>
            <a:off x="6015960" y="3939840"/>
            <a:ext cx="839520" cy="8395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9"/>
          <p:cNvSpPr/>
          <p:nvPr/>
        </p:nvSpPr>
        <p:spPr>
          <a:xfrm>
            <a:off x="7007040" y="3911760"/>
            <a:ext cx="1881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aps, o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 data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0" descr=""/>
          <p:cNvPicPr/>
          <p:nvPr/>
        </p:nvPicPr>
        <p:blipFill>
          <a:blip r:embed="rId7"/>
          <a:stretch/>
        </p:blipFill>
        <p:spPr>
          <a:xfrm>
            <a:off x="5969520" y="5059800"/>
            <a:ext cx="845640" cy="8456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1"/>
          <p:cNvSpPr/>
          <p:nvPr/>
        </p:nvSpPr>
        <p:spPr>
          <a:xfrm>
            <a:off x="6977160" y="5059800"/>
            <a:ext cx="222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sting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A071DF-E6F3-4307-81DA-9A76AB56383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clients connect over unicast, send and receive all updates unicast, resulting in fully connected me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ll updates go through the server side and can be examined on the server side – total vi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xisting simulations and protocols can be connected via bridges, tunnels and conversion gate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DM/AOIM packet chores can be spread across multiple CPUs on the cloud side. This lets us do elaborate and computationally expensive DDM on the server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MS PGothic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PU efficiency is not important on the cloud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ven with all that, it still doesn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 address latency well.  See Loren Peitso work on networked physics &amp; Defeating 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E52FEE-E71F-4EA1-AEE4-FB4C19B29BC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lexibility is more important than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cripting languages such as JavaScript are flexible; use this for a DDM language? NodeJS? Javascript executed from Ja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erhaps the client can generate the filter scripts for the packets it desires and send these to 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nknown: what is the effect on latency? Needs an instrumented example to 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C43BD6-F23B-4B2A-9DF5-40FA4595849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ig-picture question: what does SAAS actually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Understand the problem, which may be m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are simulations currently deploy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will they be deployed? Got standa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.g. can we use World Wide We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hat are the impacts on scaling up simulations to the breadth that we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Hmm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59DDE6-F02E-4DD0-B2D7-4B6781323F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is oriented towards DIS, but exactly the same problems occur in HLA; therefore RTI implementations for the Web will face the same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Likewise with WebLVC and other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 benefits of cloud-based simulation are likely to be so compelling that 25-year-old assumptions about P2P DoD protocols may need to be rethought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BEFA71-EF26-468E-8D21-78C00678728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n gen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, the superior economics of the cloud and web-based simulation drive simulation to client/server over peer-to-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ossible issues with bandwidth, latency mean likely limited to ashore and small-to-medium virtual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ashups with open source internet data sources—live feeds, map data, GIS data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MS PGothic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Optional changes to business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—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y v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r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ent simulatio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Plenty of techniques for having existing and web-based sims co-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t’s a worthwhile research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45BC16-8105-4EAF-AF6A-69CB1CCB9D7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ortfalls and Pitfalls Contin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079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Repeated topic but current status unclear: actual usage, deployment of SAAS at SISO in current and emerging pract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https://www.sisostds.org/Workshops/TracksForums/Services,Processes,Tools,andData(SVCS)Track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arriers and limitations: typically assumes common infrastructure, which generally isn’t happening except in limited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ecast: use of Web standards for data mashups and browsers as 3-tier “front en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7046E5-D6B9-4EAF-B911-FA0E336B91B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172160" y="1763280"/>
            <a:ext cx="6316920" cy="459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0937DD-7D54-462E-A0A3-EA8B1F11FD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713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mpiled C++/Java code installed on a desktop or LAN following license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desktops are mostly local network, or possibly multiple-site but directly connected via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n exploit broadcast and multicast — the networking gear helps scalability, usually because they are all on same LAN/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E8F1D5-EA44-4A76-87D0-15FD2C6A527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98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and inflexible to deploy such licensed desktop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to upgrade or even just update the same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igh management costs are ongo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pgrades are slow to come because of the above (often multi-year product life cycl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consistent systems, programs, training across larger enterprise add lifecycle c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209689-9F72-4BF4-9DA1-BED7E1EDE3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a classic three-tier architectu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0" y="1649520"/>
            <a:ext cx="9143640" cy="3404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426920" y="5139000"/>
            <a:ext cx="351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re Assets, possibly on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Connector 9"/>
          <p:cNvCxnSpPr/>
          <p:nvPr/>
        </p:nvCxnSpPr>
        <p:spPr>
          <a:xfrm flipH="1">
            <a:off x="2865240" y="1649160"/>
            <a:ext cx="98280" cy="4707360"/>
          </a:xfrm>
          <a:prstGeom prst="straightConnector1">
            <a:avLst/>
          </a:prstGeom>
          <a:ln w="50800">
            <a:solidFill>
              <a:srgbClr val="ff0000"/>
            </a:solidFill>
            <a:round/>
          </a:ln>
        </p:spPr>
      </p:cxnSp>
      <p:cxnSp>
        <p:nvCxnSpPr>
          <p:cNvPr id="102" name="Straight Arrow Connector 11"/>
          <p:cNvCxnSpPr/>
          <p:nvPr/>
        </p:nvCxnSpPr>
        <p:spPr>
          <a:xfrm>
            <a:off x="2865240" y="5323320"/>
            <a:ext cx="118908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03" name="Straight Arrow Connector 12"/>
          <p:cNvCxnSpPr/>
          <p:nvPr/>
        </p:nvCxnSpPr>
        <p:spPr>
          <a:xfrm flipH="1">
            <a:off x="1481400" y="6062040"/>
            <a:ext cx="138420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04" name="TextBox 15"/>
          <p:cNvSpPr/>
          <p:nvPr/>
        </p:nvSpPr>
        <p:spPr>
          <a:xfrm>
            <a:off x="468360" y="5259240"/>
            <a:ext cx="154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484920" y="6220440"/>
            <a:ext cx="156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Fac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8CDE00-9E1C-43D8-A28A-6EC42804E19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2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business trend is to use web-based applications rather than desktop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ast deployment of new software—update once on server, use on web browser, faster life cycles (sometimes days or h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uch che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xploit cloud on server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bile devices welcome, agile across multiple architectures (Linux/Windows/Android/IOS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Less capable than compiled applications (though performance difference is not as bad as you might th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ome UI issues since it’s running inside a web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HTML5 helps, X3D Graphics standard also very cap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501472-D008-4F7D-834E-E97A084B120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s of this are compelling, as a quick survey sh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ew write desktop mail applications anymore—i.e. instead use gmail, Google Calendar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s are mostly web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gle Docs &amp; Office Online vs. MS Office Desktop (limitations of the gen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033DE6-0861-4063-94BA-671861C907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110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ne thing that makes web apps compelling is economics of the c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67440" y="2702520"/>
            <a:ext cx="7619400" cy="395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2BB8D5-F73F-4CC3-8CED-BA7E4FF1BB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01563373756CE4D8A3D6FB421EA66FC" ma:contentTypeVersion="0" ma:contentTypeDescription="Create a new document." ma:contentTypeScope="" ma:versionID="11fbabed02a6ed1c331ac1899bd0631f">
  <xsd:schema xmlns:xsd="http://www.w3.org/2001/XMLSchema" xmlns:p="http://schemas.microsoft.com/office/2006/metadata/properties" targetNamespace="http://schemas.microsoft.com/office/2006/metadata/properties" ma:root="true" ma:fieldsID="4aeb20c0e3442673af7ee10786458764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 ma:readOnly="tru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</ct:contentTypeSchema>
</file>

<file path=customXml/item2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Props1.xml><?xml version="1.0" encoding="utf-8"?>
<ds:datastoreItem xmlns:ds="http://schemas.openxmlformats.org/officeDocument/2006/customXml" ds:itemID="{54E0CCA3-6762-4D5B-A3ED-EBE58DEAA8DD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customXml/itemProps2.xml><?xml version="1.0" encoding="utf-8"?>
<ds:datastoreItem xmlns:ds="http://schemas.openxmlformats.org/officeDocument/2006/customXml" ds:itemID="{FCC75706-2E43-4917-B7AE-A681D046FD5E}">
  <ds:schemaRefs>
    <ds:schemaRef ds:uri="http://schemas.microsoft.com/sharepoint/v3/contenttype/form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MOVES_Template.potx</Template>
  <TotalTime>6742</TotalTime>
  <Application>LibreOffice/7.4.7.2$Linux_X86_64 LibreOffice_project/40$Build-2</Application>
  <AppVersion>15.0000</AppVersion>
  <Words>1308</Words>
  <Paragraphs>140</Paragraphs>
  <Company> NPS/MOVES Institut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21:17:32Z</dcterms:created>
  <dc:creator/>
  <dc:description/>
  <dc:language>en-US</dc:language>
  <cp:lastModifiedBy>Brutzman, Donald (Don) (CIV)</cp:lastModifiedBy>
  <dcterms:modified xsi:type="dcterms:W3CDTF">2024-09-11T17:09:46Z</dcterms:modified>
  <cp:revision>174</cp:revision>
  <dc:subject/>
  <dc:title>MOVES R&amp;E Summit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01563373756CE4D8A3D6FB421EA66FC</vt:lpwstr>
  </property>
  <property fmtid="{D5CDD505-2E9C-101B-9397-08002B2CF9AE}" pid="3" name="Notes">
    <vt:r8>1</vt:r8>
  </property>
  <property fmtid="{D5CDD505-2E9C-101B-9397-08002B2CF9AE}" pid="4" name="PresentationFormat">
    <vt:lpwstr>On-screen Show (4:3)</vt:lpwstr>
  </property>
  <property fmtid="{D5CDD505-2E9C-101B-9397-08002B2CF9AE}" pid="5" name="Slides">
    <vt:r8>22</vt:r8>
  </property>
</Properties>
</file>