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_rels/.rels" ContentType="application/vnd.openxmlformats-package.relationships+xml"/>
  <Override PartName="/customXml/item1.xml" ContentType="application/xml"/>
  <Override PartName="/customXml/itemProps1.xml" ContentType="application/vnd.openxmlformats-officedocument.customXmlProperties+xml"/>
  <Override PartName="/customXml/item2.xml" ContentType="application/xml"/>
  <Override PartName="/customXml/_rels/item2.xml.rels" ContentType="application/vnd.openxmlformats-package.relationships+xml"/>
  <Override PartName="/customXml/_rels/item1.xml.rels" ContentType="application/vnd.openxmlformats-package.relationships+xml"/>
  <Override PartName="/customXml/itemProps2.xml" ContentType="application/vnd.openxmlformats-officedocument.customXml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customXml" Target="../customXml/item1.xml"/><Relationship Id="rId5" Type="http://schemas.openxmlformats.org/officeDocument/2006/relationships/customXml" Target="../customXml/item2.xml"/><Relationship Id="rId6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dt" idx="5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7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A4A238F-A926-4907-A1CF-376A2EAA7B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Num" idx="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75EE1EA-EC2D-4333-9C75-44A2BBCC6DBB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B144-7DA9-4C6F-A585-A4CBA16F6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23C3-553E-4151-911B-8D7D251C5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6806-A885-4DA6-8988-58661C98E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0724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372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2076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0724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372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87AF-FB2A-4ED8-80FE-D5AD2F163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7EF1CE-88AF-4A63-9849-40BD0FB2A0E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0BE89C-57B1-486F-890B-47CEBAC690E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33274E-6B85-43A8-9472-4BD7DDFB98B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DB1033-6BF9-41CB-887B-5D4BCC06943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F39C06-5880-4143-9436-67E2309D364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713535-EAEC-4E6B-88BB-95BB12E0860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E284D4-A48A-4740-96F3-9A6929ED3E1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CCEF-2394-4FCC-9792-96C44576E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875EEC-D529-4F58-B8E8-B3C162E3B90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84ABF9-218E-4708-B702-732CF3C39A9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1EE468-D9CA-4161-9934-FE7905314B6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5D726C-A51F-4D2C-9EFD-E4638EF2EA6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0724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372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2076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0724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9372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09486A-8F55-4D18-A383-536031B485A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19B3-4740-47C3-874F-F67685F2C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1BFF-D19B-467B-BB8D-5C277CF57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8C32-7143-427A-9AC6-B9F6ADEF4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6BEA-95C2-4D64-90AD-2D96B838C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51CE-BE1F-4418-9A03-6A00BA8E0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6F5B-7E9D-4019-BD97-9ABF50A65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A99D-D7CE-4203-917D-08DD948F6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23FF588-CCED-4018-8FE5-FB821E8E463C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Straight Connector 3"/>
          <p:cNvCxnSpPr/>
          <p:nvPr/>
        </p:nvCxnSpPr>
        <p:spPr>
          <a:xfrm>
            <a:off x="336240" y="1385640"/>
            <a:ext cx="8076240" cy="10080"/>
          </a:xfrm>
          <a:prstGeom prst="straightConnector1">
            <a:avLst/>
          </a:prstGeom>
          <a:ln w="57150">
            <a:solidFill>
              <a:srgbClr val="000090"/>
            </a:solidFill>
            <a:round/>
          </a:ln>
        </p:spPr>
      </p:cxn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4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B49A23D-0E44-4BDD-A6DC-7453F4A95FE1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8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5000" y="1635480"/>
            <a:ext cx="7685640" cy="2984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as a Service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, an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etwork Archite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0160" y="4278240"/>
            <a:ext cx="6400440" cy="15213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 fontScale="88000"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Arial"/>
              </a:rPr>
              <a:t>Don Brutz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Arial"/>
              </a:rPr>
              <a:t>Don McGreg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Arial"/>
              </a:rPr>
              <a:t>MOVES Instit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3"/>
          <p:cNvSpPr/>
          <p:nvPr/>
        </p:nvSpPr>
        <p:spPr>
          <a:xfrm>
            <a:off x="6113520" y="6118200"/>
            <a:ext cx="29001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rutzman@nps.ed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re are economies of scale for data centers, which drives unit cost of compute cycles and storage steadily downwa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t limit, CPU and disk are “free and infinite” on the cloud (OK, not quite, but close and trending that wa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ble to flexibly get more capacity when needed, scale back down when not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862FC0-F299-41C2-814B-107C50BF601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as a Serv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, change the business model for M&amp;S? Enables rental of simulation services from the cloud instead of buying &amp; installing applications on the deskto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an still do it the old way if you like, and own the server software, run on a government clo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nalogous to Software as a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S Exchange, Office Web Apps, Google Do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C0512F-3217-40F1-AAAA-01F4A93904F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 for Simu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5191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imulations are different from office applications, especially in usage of net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f you send an entity position update, potentially that has to go t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other simulation particip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In a virtual world “My position is (17, 23, 42)” may have to be sent to every other particip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us area of interest management (AOIM) and packet filtering are essential nee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61078F-20FE-479F-92EA-DA6B9BAB54F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etwork Upd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703440" y="1937160"/>
            <a:ext cx="1417320" cy="14173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"/>
          <p:cNvPicPr/>
          <p:nvPr/>
        </p:nvPicPr>
        <p:blipFill>
          <a:blip r:embed="rId2"/>
          <a:stretch/>
        </p:blipFill>
        <p:spPr>
          <a:xfrm>
            <a:off x="2646720" y="1937160"/>
            <a:ext cx="1417320" cy="14173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"/>
          <p:cNvPicPr/>
          <p:nvPr/>
        </p:nvPicPr>
        <p:blipFill>
          <a:blip r:embed="rId3"/>
          <a:stretch/>
        </p:blipFill>
        <p:spPr>
          <a:xfrm>
            <a:off x="4753080" y="1937160"/>
            <a:ext cx="1417320" cy="14173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"/>
          <p:cNvPicPr/>
          <p:nvPr/>
        </p:nvPicPr>
        <p:blipFill>
          <a:blip r:embed="rId4"/>
          <a:stretch/>
        </p:blipFill>
        <p:spPr>
          <a:xfrm>
            <a:off x="6891480" y="1937160"/>
            <a:ext cx="1417320" cy="1417320"/>
          </a:xfrm>
          <a:prstGeom prst="rect">
            <a:avLst/>
          </a:prstGeom>
          <a:ln w="0">
            <a:noFill/>
          </a:ln>
        </p:spPr>
      </p:pic>
      <p:cxnSp>
        <p:nvCxnSpPr>
          <p:cNvPr id="124" name="Straight Connector 9"/>
          <p:cNvCxnSpPr/>
          <p:nvPr/>
        </p:nvCxnSpPr>
        <p:spPr>
          <a:xfrm>
            <a:off x="1416240" y="4281480"/>
            <a:ext cx="6203520" cy="360"/>
          </a:xfrm>
          <a:prstGeom prst="straightConnector1">
            <a:avLst/>
          </a:prstGeom>
          <a:ln>
            <a:solidFill>
              <a:srgbClr val="4f81bd"/>
            </a:solidFill>
            <a:round/>
          </a:ln>
        </p:spPr>
      </p:cxnSp>
      <p:cxnSp>
        <p:nvCxnSpPr>
          <p:cNvPr id="125" name="Straight Connector 12"/>
          <p:cNvCxnSpPr/>
          <p:nvPr/>
        </p:nvCxnSpPr>
        <p:spPr>
          <a:xfrm flipV="1">
            <a:off x="141624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</a:ln>
        </p:spPr>
      </p:cxnSp>
      <p:sp>
        <p:nvSpPr>
          <p:cNvPr id="126" name="Rectangle 17"/>
          <p:cNvSpPr/>
          <p:nvPr/>
        </p:nvSpPr>
        <p:spPr>
          <a:xfrm>
            <a:off x="1693080" y="4558320"/>
            <a:ext cx="1123200" cy="471600"/>
          </a:xfrm>
          <a:prstGeom prst="rect">
            <a:avLst/>
          </a:prstGeom>
          <a:gradFill rotWithShape="0">
            <a:gsLst>
              <a:gs pos="0">
                <a:srgbClr val="3e7fcc"/>
              </a:gs>
              <a:gs pos="100000">
                <a:srgbClr val="a4c1ff"/>
              </a:gs>
            </a:gsLst>
            <a:lin ang="16200000"/>
          </a:gradFill>
          <a:ln>
            <a:solidFill>
              <a:srgbClr val="4a7ebb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  <a:ea typeface="ＭＳ Ｐゴシック"/>
              </a:rPr>
              <a:t>(x,y,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8"/>
          <p:cNvSpPr/>
          <p:nvPr/>
        </p:nvSpPr>
        <p:spPr>
          <a:xfrm>
            <a:off x="584280" y="5388120"/>
            <a:ext cx="833616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n a LAN or some WANs we can use broadcast or multic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 prevent having to send out N-1 repeats of the messag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y require some preconfigu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Straight Arrow Connector 20"/>
          <p:cNvCxnSpPr/>
          <p:nvPr/>
        </p:nvCxnSpPr>
        <p:spPr>
          <a:xfrm flipV="1">
            <a:off x="335376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cxnSp>
        <p:nvCxnSpPr>
          <p:cNvPr id="129" name="Straight Arrow Connector 21"/>
          <p:cNvCxnSpPr/>
          <p:nvPr/>
        </p:nvCxnSpPr>
        <p:spPr>
          <a:xfrm flipV="1">
            <a:off x="545976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cxnSp>
        <p:nvCxnSpPr>
          <p:cNvPr id="130" name="Straight Arrow Connector 22"/>
          <p:cNvCxnSpPr/>
          <p:nvPr/>
        </p:nvCxnSpPr>
        <p:spPr>
          <a:xfrm flipV="1">
            <a:off x="761940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DDD667-C8B7-4033-9598-F8FD732625E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62956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n web networking technologies ther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s no broadcast or multica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. Everything is unic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ebsockets (TCP), WebRTC (UDP) JavaScript in the web 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is means other techniques needed for Area of Interest Management (AOIM) or Data Distribution Management (DDM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We can’t always rely on networking gear to do this for us, as with broadcast or multic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45BCF6-0FDE-438C-A594-8BEFA79A408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20760" y="1525320"/>
            <a:ext cx="8537040" cy="19972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This moves the needle away from peer-to-peer architectures (classically DIS and HLA) and towards client-server architec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eer-to-peer (P2P) sharing schemes often rely on broadcast and multica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1823040" y="3792960"/>
            <a:ext cx="4880160" cy="2927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2981C9-91E1-4343-BB6A-A611DBC3FEB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If all the packets are flowing through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ing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server, then that server probably can’t handle it all. That’s the bad news. Bu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e have infinite CPU and disk on the server side, because that’s on the cloud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we parallelize across multiple host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e can examine each packet and make decisions about what to send to each client. This reduces the bandwidth used and client load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Thus design of overall network is necessa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B9311C-A5E3-4400-8486-7D6507EC4B6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le Client-Ser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3484080" y="2342880"/>
            <a:ext cx="1596240" cy="15962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imgres.jpg"/>
          <p:cNvPicPr/>
          <p:nvPr/>
        </p:nvPicPr>
        <p:blipFill>
          <a:blip r:embed="rId2"/>
          <a:stretch/>
        </p:blipFill>
        <p:spPr>
          <a:xfrm>
            <a:off x="5976000" y="1503720"/>
            <a:ext cx="682920" cy="1230840"/>
          </a:xfrm>
          <a:prstGeom prst="rect">
            <a:avLst/>
          </a:prstGeom>
          <a:ln w="0">
            <a:noFill/>
          </a:ln>
        </p:spPr>
      </p:pic>
      <p:sp>
        <p:nvSpPr>
          <p:cNvPr id="141" name="TextBox 6"/>
          <p:cNvSpPr/>
          <p:nvPr/>
        </p:nvSpPr>
        <p:spPr>
          <a:xfrm>
            <a:off x="3203280" y="4233600"/>
            <a:ext cx="2007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can be cluster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7"/>
          <p:cNvSpPr/>
          <p:nvPr/>
        </p:nvSpPr>
        <p:spPr>
          <a:xfrm>
            <a:off x="7015680" y="1685160"/>
            <a:ext cx="21592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plication 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clustered) do DD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8" descr="computer.png"/>
          <p:cNvPicPr/>
          <p:nvPr/>
        </p:nvPicPr>
        <p:blipFill>
          <a:blip r:embed="rId3"/>
          <a:stretch/>
        </p:blipFill>
        <p:spPr>
          <a:xfrm>
            <a:off x="377640" y="1662480"/>
            <a:ext cx="1282680" cy="12826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9" descr="computer.png"/>
          <p:cNvPicPr/>
          <p:nvPr/>
        </p:nvPicPr>
        <p:blipFill>
          <a:blip r:embed="rId4"/>
          <a:stretch/>
        </p:blipFill>
        <p:spPr>
          <a:xfrm>
            <a:off x="377640" y="3596760"/>
            <a:ext cx="1282680" cy="12826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0" descr=""/>
          <p:cNvPicPr/>
          <p:nvPr/>
        </p:nvPicPr>
        <p:blipFill>
          <a:blip r:embed="rId5"/>
          <a:stretch/>
        </p:blipFill>
        <p:spPr>
          <a:xfrm>
            <a:off x="6015960" y="3006360"/>
            <a:ext cx="715680" cy="715680"/>
          </a:xfrm>
          <a:prstGeom prst="rect">
            <a:avLst/>
          </a:prstGeom>
          <a:ln w="0">
            <a:noFill/>
          </a:ln>
        </p:spPr>
      </p:pic>
      <p:sp>
        <p:nvSpPr>
          <p:cNvPr id="146" name="TextBox 11"/>
          <p:cNvSpPr/>
          <p:nvPr/>
        </p:nvSpPr>
        <p:spPr>
          <a:xfrm>
            <a:off x="7004520" y="3100680"/>
            <a:ext cx="12708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b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2"/>
          <p:cNvSpPr/>
          <p:nvPr/>
        </p:nvSpPr>
        <p:spPr>
          <a:xfrm>
            <a:off x="383760" y="5612400"/>
            <a:ext cx="877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Straight Connector 15"/>
          <p:cNvCxnSpPr/>
          <p:nvPr/>
        </p:nvCxnSpPr>
        <p:spPr>
          <a:xfrm>
            <a:off x="2653560" y="1503720"/>
            <a:ext cx="16920" cy="4872240"/>
          </a:xfrm>
          <a:prstGeom prst="straightConnector1">
            <a:avLst/>
          </a:prstGeom>
          <a:ln>
            <a:solidFill>
              <a:srgbClr val="ff0000"/>
            </a:solidFill>
            <a:round/>
          </a:ln>
        </p:spPr>
      </p:cxnSp>
      <p:sp>
        <p:nvSpPr>
          <p:cNvPr id="149" name="TextBox 16"/>
          <p:cNvSpPr/>
          <p:nvPr/>
        </p:nvSpPr>
        <p:spPr>
          <a:xfrm>
            <a:off x="2849400" y="5982480"/>
            <a:ext cx="62391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Cloud (server side, free and infinite CPU and stora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18" descr=""/>
          <p:cNvPicPr/>
          <p:nvPr/>
        </p:nvPicPr>
        <p:blipFill>
          <a:blip r:embed="rId6"/>
          <a:stretch/>
        </p:blipFill>
        <p:spPr>
          <a:xfrm>
            <a:off x="6015960" y="3939840"/>
            <a:ext cx="839520" cy="839520"/>
          </a:xfrm>
          <a:prstGeom prst="rect">
            <a:avLst/>
          </a:prstGeom>
          <a:ln w="0">
            <a:noFill/>
          </a:ln>
        </p:spPr>
      </p:pic>
      <p:sp>
        <p:nvSpPr>
          <p:cNvPr id="151" name="TextBox 19"/>
          <p:cNvSpPr/>
          <p:nvPr/>
        </p:nvSpPr>
        <p:spPr>
          <a:xfrm>
            <a:off x="7007040" y="3911760"/>
            <a:ext cx="18817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maps, op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urce data, et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0" descr=""/>
          <p:cNvPicPr/>
          <p:nvPr/>
        </p:nvPicPr>
        <p:blipFill>
          <a:blip r:embed="rId7"/>
          <a:stretch/>
        </p:blipFill>
        <p:spPr>
          <a:xfrm>
            <a:off x="5969520" y="5059800"/>
            <a:ext cx="845640" cy="845640"/>
          </a:xfrm>
          <a:prstGeom prst="rect">
            <a:avLst/>
          </a:prstGeom>
          <a:ln w="0">
            <a:noFill/>
          </a:ln>
        </p:spPr>
      </p:pic>
      <p:sp>
        <p:nvSpPr>
          <p:cNvPr id="153" name="TextBox 21"/>
          <p:cNvSpPr/>
          <p:nvPr/>
        </p:nvSpPr>
        <p:spPr>
          <a:xfrm>
            <a:off x="6977160" y="5059800"/>
            <a:ext cx="2221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isting Sim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955E1E-EBA5-4FB1-8753-F92462E4C37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le Client-Ser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he clients connect over unicast, send and receive all updates unicast, resulting in fully connected mes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All updates go through the server side and can be examined on the server side – total vi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Existing simulations and protocols can be connected via bridges, tunnels and conversion gate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DDM/AOIM packet chores can be spread across multiple CPUs on the cloud side. This lets us do elaborate and computationally expensive DDM on the server sid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MS PGothic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CPU efficiency is not important on the cloud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Even with all that, it still doesn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MS PGothic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 address latency well.  See Loren Peitso work on networked physics &amp; Defeating L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B57648-A2DE-4C01-BD86-2483D427517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rver-Side DDM Thou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lexibility is more important than effic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cripting languages such as JavaScript are flexible; use this for a DDM language? NodeJS? Javascript executed from Jav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erhaps the client can generate the filter scripts for the packets it desires and send these to the ser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Unknown: what is the effect on latency? Needs an instrumented example to invest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331450-A3DB-4223-A485-DC45699573B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Deployment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ig-picture question: what does SAAS actually me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Understand the problem, which may be mo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ow are simulations currently deploy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ow will they be deployed? Got standard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.g. can we use World Wide Web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What are the impacts on scaling up simulations to the breadth that we ne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Hmmm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620317-4EFD-4BEA-956B-ACC665243EC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rver-Side DDM Thou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is is oriented towards DIS, but exactly the same problems occur in HLA; therefore RTI implementations for the Web will face the same issu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Likewise with WebLVC and other 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 economic benefits of cloud-based simulation are likely to be so compelling that 25-year-old assumptions about P2P DoD protocols may need to be rethought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035C52-3EC4-4B0C-B649-643F36CB9C7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rver-Side DD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In gener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, the superior economics of the cloud and web-based simulation drive simulation to client/server over peer-to-pe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Possible issues with bandwidth, latency mean likely limited to ashore and small-to-medium virtual environ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ashups with open source internet data sources—live feeds, map data, GIS data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MS PGothic"/>
              </a:rPr>
              <a:t>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Optional changes to business mod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—</a:t>
            </a: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buy vs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r</a:t>
            </a: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ent simulation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Plenty of techniques for having existing and web-based sims co-ex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It’s a worthwhile research top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F2FA13-1230-46CA-8BD0-BD13DF622C9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hortfalls and Pitfalls Contin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5079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Repeated topic but current status unclear: actual usage, deployment of SAAS at SISO in current and emerging pract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https://www.sisostds.org/Workshops/TracksForums/Services,Processes,Tools,andData(SVCS)Track.asp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arriers and limitations: typically assumes common infrastructure, which generally isn’t happening except in limited ca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orecast: use of Web standards for data mashups and browsers as 3-tier “front end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DA74D4-C47B-4E13-8957-A259BC08AB7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Deployment: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1172160" y="1763280"/>
            <a:ext cx="6316920" cy="4592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1CEC59-FF87-44C6-8838-6A4CBC25E5E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Deployment: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67132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mpiled C++/Java code installed on a desktop or LAN following license acqui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 desktops are mostly local network, or possibly multiple-site but directly connected via TCP/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n exploit broadcast and multicast — the networking gear helps scalability, usually because they are all on same LAN/backb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F5F190-0696-4AEE-86D3-BF85892206B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urrent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9870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t’s expensive and inflexible to deploy such licensed desktop applicat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t’s expensive to upgrade or even just update the same applicat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igh management costs are ongo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Upgrades are slow to come because of the above (often multi-year product life cycle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nconsistent systems, programs, training across larger enterprise add lifecycle cos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8CE54C-0902-4BBA-A62D-C037AAA6938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5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b Applications</a:t>
            </a:r>
            <a:br>
              <a:rPr sz="44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a classic three-tier architectur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6" descr=""/>
          <p:cNvPicPr/>
          <p:nvPr/>
        </p:nvPicPr>
        <p:blipFill>
          <a:blip r:embed="rId1"/>
          <a:stretch/>
        </p:blipFill>
        <p:spPr>
          <a:xfrm>
            <a:off x="0" y="1649520"/>
            <a:ext cx="9143640" cy="3404160"/>
          </a:xfrm>
          <a:prstGeom prst="rect">
            <a:avLst/>
          </a:prstGeom>
          <a:ln w="0">
            <a:noFill/>
          </a:ln>
        </p:spPr>
      </p:pic>
      <p:sp>
        <p:nvSpPr>
          <p:cNvPr id="100" name="TextBox 7"/>
          <p:cNvSpPr/>
          <p:nvPr/>
        </p:nvSpPr>
        <p:spPr>
          <a:xfrm>
            <a:off x="4426920" y="5139000"/>
            <a:ext cx="35157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cure Assets, possibly on clo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Straight Connector 9"/>
          <p:cNvCxnSpPr/>
          <p:nvPr/>
        </p:nvCxnSpPr>
        <p:spPr>
          <a:xfrm flipH="1">
            <a:off x="2865240" y="1649160"/>
            <a:ext cx="98280" cy="4707360"/>
          </a:xfrm>
          <a:prstGeom prst="straightConnector1">
            <a:avLst/>
          </a:prstGeom>
          <a:ln w="50800">
            <a:solidFill>
              <a:srgbClr val="ff0000"/>
            </a:solidFill>
            <a:round/>
          </a:ln>
        </p:spPr>
      </p:cxnSp>
      <p:cxnSp>
        <p:nvCxnSpPr>
          <p:cNvPr id="102" name="Straight Arrow Connector 11"/>
          <p:cNvCxnSpPr/>
          <p:nvPr/>
        </p:nvCxnSpPr>
        <p:spPr>
          <a:xfrm>
            <a:off x="2865240" y="5323320"/>
            <a:ext cx="1189080" cy="360"/>
          </a:xfrm>
          <a:prstGeom prst="straightConnector1">
            <a:avLst/>
          </a:prstGeom>
          <a:ln w="85725"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103" name="Straight Arrow Connector 12"/>
          <p:cNvCxnSpPr/>
          <p:nvPr/>
        </p:nvCxnSpPr>
        <p:spPr>
          <a:xfrm flipH="1">
            <a:off x="1481400" y="6062040"/>
            <a:ext cx="1384200" cy="360"/>
          </a:xfrm>
          <a:prstGeom prst="straightConnector1">
            <a:avLst/>
          </a:prstGeom>
          <a:ln w="85725">
            <a:solidFill>
              <a:srgbClr val="ff0000"/>
            </a:solidFill>
            <a:round/>
            <a:tailEnd len="med" type="arrow" w="med"/>
          </a:ln>
        </p:spPr>
      </p:cxnSp>
      <p:sp>
        <p:nvSpPr>
          <p:cNvPr id="104" name="TextBox 15"/>
          <p:cNvSpPr/>
          <p:nvPr/>
        </p:nvSpPr>
        <p:spPr>
          <a:xfrm>
            <a:off x="468360" y="5259240"/>
            <a:ext cx="1546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 Brow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0"/>
          <p:cNvSpPr/>
          <p:nvPr/>
        </p:nvSpPr>
        <p:spPr>
          <a:xfrm>
            <a:off x="484920" y="6220440"/>
            <a:ext cx="15634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r Facing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D16996-E200-4318-95A0-DA5F1C9DFBB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b 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5121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he business trend is to use web-based applications rather than desktop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ast deployment of new software—update once on server, use on web browser, faster life cycles (sometimes days or hou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uch cheap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Exploit cloud on server s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obile devices welcome, agile across multiple architectures (Linux/Windows/Android/IOS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Less capable than compiled applications (though performance difference is not as bad as you might thin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Some UI issues since it’s running inside a web brow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HTML5 helps, X3D Graphics standard also very cap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3E9D5E-A4A0-41E5-8ADB-479CD2C9479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b 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 economics of this are compelling, as a quick survey sh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ew write desktop mail applications anymore—i.e. instead use gmail, Google Calendar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nterprise apps are mostly web b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gle Docs &amp; Office Online vs. MS Office Desktop (limitations of the gen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174E96-AEAD-43A0-8683-C77AEAE82A8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1101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ne thing that makes web apps compelling is economics of the clo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667440" y="2702520"/>
            <a:ext cx="7619400" cy="3958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AA3E5A-5A0D-41AE-BB1F-A322B972CCC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MOVES_Templat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MOVES_Templat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customXml/_rels/item1.xml.rels><?xml version="1.0" encoding="UTF-8"?>
<Relationships xmlns="http://schemas.openxmlformats.org/package/2006/relationships"><Relationship Id="rId1" Type="http://schemas.openxmlformats.org/officeDocument/2006/relationships/customXmlProps" Target="itemProps1.xml"/>
</Relationships>
</file>

<file path=customXml/_rels/item2.xml.rels><?xml version="1.0" encoding="UTF-8"?>
<Relationships xmlns="http://schemas.openxmlformats.org/package/2006/relationships"><Relationship Id="rId1" Type="http://schemas.openxmlformats.org/officeDocument/2006/relationships/customXmlProps" Target="itemProps2.xml"/>
</Relationships>
</file>

<file path=customXml/item1.xml><?xml version="1.0" encoding="utf-8"?>
<ct:contentTypeSchema xmlns:ct="http://schemas.microsoft.com/office/2006/metadata/contentType" xmlns:ma="http://schemas.microsoft.com/office/2006/metadata/properties/metaAttributes" ct:_="" ma:_="" ma:contentTypeName="Document" ma:contentTypeID="0x010100001563373756CE4D8A3D6FB421EA66FC" ma:contentTypeVersion="0" ma:contentTypeDescription="Create a new document." ma:contentTypeScope="" ma:versionID="11fbabed02a6ed1c331ac1899bd0631f">
  <xsd:schema xmlns:xsd="http://www.w3.org/2001/XMLSchema" xmlns:p="http://schemas.microsoft.com/office/2006/metadata/properties" targetNamespace="http://schemas.microsoft.com/office/2006/metadata/properties" ma:root="true" ma:fieldsID="4aeb20c0e3442673af7ee10786458764">
    <xsd:element name="properties">
      <xsd:complexType>
        <xsd:sequence>
          <xsd:element name="documentManagement">
            <xsd:complexType>
              <xsd:all/>
            </xsd:complexType>
          </xsd:element>
        </xsd:sequence>
      </xsd:complexType>
    </xsd:element>
  </xsd:schema>
  <xsd:schema xmlns="http://schemas.openxmlformats.org/package/2006/metadata/core-properties" xmlns:xsd="http://www.w3.org/2001/XMLSchema" xmlns:xsi="http://www.w3.org/2001/XMLSchema-instance" xmlns:dc="http://purl.org/dc/elements/1.1/" xmlns:dcterms="http://purl.org/dc/terms/" xmlns:odoc="http://schemas.microsoft.com/office/internal/2005/internalDocumentation" targetNamespace="http://schemas.openxmlformats.org/package/2006/metadata/core-properties" elementFormDefault="qualified" attributeFormDefault="unqualified" blockDefault="#all">
    <xsd:import namespace="http://purl.org/dc/elements/1.1/" schemaLocation="http://dublincore.org/schemas/xmls/qdc/2003/04/02/dc.xsd"/>
    <xsd:import namespace="http://purl.org/dc/terms/" schemaLocation="http://dublincore.org/schemas/xmls/qdc/2003/04/02/dcterms.xsd"/>
    <xsd:element name="coreProperties" type="CT_coreProperties"/>
    <xsd:complexType name="CT_coreProperties">
      <xsd:all>
        <xsd:element ref="dc:creator" minOccurs="0" maxOccurs="1"/>
        <xsd:element ref="dcterms:created" minOccurs="0" maxOccurs="1"/>
        <xsd:element ref="dc:identifier" minOccurs="0" maxOccurs="1"/>
        <xsd:element name="contentType" minOccurs="0" maxOccurs="1" type="xsd:string" ma:index="0" ma:displayName="Content Type" ma:readOnly="true"/>
        <xsd:element ref="dc:title" minOccurs="0" maxOccurs="1" ma:index="4" ma:displayName="Title"/>
        <xsd:element ref="dc:subject" minOccurs="0" maxOccurs="1"/>
        <xsd:element ref="dc:description" minOccurs="0" maxOccurs="1"/>
        <xsd:element name="keywords" minOccurs="0" maxOccurs="1" type="xsd:string"/>
        <xsd:element ref="dc:language" minOccurs="0" maxOccurs="1"/>
        <xsd:element name="category" minOccurs="0" maxOccurs="1" type="xsd:string"/>
        <xsd:element name="version" minOccurs="0" maxOccurs="1" type="xsd:string"/>
        <xsd:element name="revision" minOccurs="0" maxOccurs="1" type="xsd:string">
          <xsd:annotation>
            <xsd:documentation>
                        This value indicates the number of saves or revisions. The application is responsible for updating this value after each revision.
                    </xsd:documentation>
          </xsd:annotation>
        </xsd:element>
        <xsd:element name="lastModifiedBy" minOccurs="0" maxOccurs="1" type="xsd:string"/>
        <xsd:element ref="dcterms:modified" minOccurs="0" maxOccurs="1"/>
        <xsd:element name="lastPrinted" minOccurs="0" maxOccurs="1" type="xsd:dateTime"/>
        <xsd:element name="contentStatus" minOccurs="0" maxOccurs="1" type="xsd:string"/>
      </xsd:all>
    </xsd:complexType>
  </xsd:schema>
</ct:contentTypeSchema>
</file>

<file path=customXml/item2.xml><?xml version="1.0" encoding="utf-8"?>
<?mso-contentType ?>
<FormTemplates xmlns="http://schemas.microsoft.com/sharepoint/v3/contenttype/forms">
  <Display>DocumentLibraryForm</Display>
  <Edit>DocumentLibraryForm</Edit>
  <New>DocumentLibraryForm</New>
</FormTemplates>
</file>

<file path=customXml/itemProps1.xml><?xml version="1.0" encoding="utf-8"?>
<ds:datastoreItem xmlns:ds="http://schemas.openxmlformats.org/officeDocument/2006/customXml" ds:itemID="{54E0CCA3-6762-4D5B-A3ED-EBE58DEAA8DD}">
  <ds:schemaRefs>
    <ds:schemaRef ds:uri="http://schemas.microsoft.com/office/2006/metadata/contentType"/>
    <ds:schemaRef ds:uri="http://schemas.microsoft.com/office/2006/metadata/properties/metaAttributes"/>
    <ds:schemaRef ds:uri="http://www.w3.org/2001/XMLSchema"/>
    <ds:schemaRef ds:uri="http://schemas.microsoft.com/office/2006/metadata/properties"/>
    <ds:schemaRef ds:uri="http://schemas.openxmlformats.org/package/2006/metadata/core-properties"/>
    <ds:schemaRef ds:uri="http://purl.org/dc/elements/1.1/"/>
    <ds:schemaRef ds:uri="http://purl.org/dc/terms/"/>
    <ds:schemaRef ds:uri="http://schemas.microsoft.com/office/internal/2005/internalDocumentation"/>
  </ds:schemaRefs>
</ds:datastoreItem>
</file>

<file path=customXml/itemProps2.xml><?xml version="1.0" encoding="utf-8"?>
<ds:datastoreItem xmlns:ds="http://schemas.openxmlformats.org/officeDocument/2006/customXml" ds:itemID="{FCC75706-2E43-4917-B7AE-A681D046FD5E}">
  <ds:schemaRefs>
    <ds:schemaRef ds:uri="http://schemas.microsoft.com/sharepoint/v3/contenttype/forms"/>
  </ds:schemaRefs>
</ds:datastoreItem>
</file>

<file path=docProps/app.xml><?xml version="1.0" encoding="utf-8"?>
<Properties xmlns="http://schemas.openxmlformats.org/officeDocument/2006/extended-properties" xmlns:vt="http://schemas.openxmlformats.org/officeDocument/2006/docPropsVTypes">
  <Template>MOVES_Template.potx</Template>
  <TotalTime>6742</TotalTime>
  <Application>LibreOffice/7.4.7.2$Linux_X86_64 LibreOffice_project/40$Build-2</Application>
  <AppVersion>15.0000</AppVersion>
  <Words>1308</Words>
  <Paragraphs>140</Paragraphs>
  <Company> NPS/MOVES Institute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8T21:17:32Z</dcterms:created>
  <dc:creator/>
  <dc:description/>
  <dc:language>en-US</dc:language>
  <cp:lastModifiedBy>Brutzman, Donald (Don) (CIV)</cp:lastModifiedBy>
  <dcterms:modified xsi:type="dcterms:W3CDTF">2024-09-11T17:09:46Z</dcterms:modified>
  <cp:revision>174</cp:revision>
  <dc:subject/>
  <dc:title>MOVES R&amp;E Summit 201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001563373756CE4D8A3D6FB421EA66FC</vt:lpwstr>
  </property>
  <property fmtid="{D5CDD505-2E9C-101B-9397-08002B2CF9AE}" pid="3" name="Notes">
    <vt:r8>1</vt:r8>
  </property>
  <property fmtid="{D5CDD505-2E9C-101B-9397-08002B2CF9AE}" pid="4" name="PresentationFormat">
    <vt:lpwstr>On-screen Show (4:3)</vt:lpwstr>
  </property>
  <property fmtid="{D5CDD505-2E9C-101B-9397-08002B2CF9AE}" pid="5" name="Slides">
    <vt:r8>22</vt:r8>
  </property>
</Properties>
</file>