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C79A605-49D1-4981-AABF-39BC01B775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C1C8BEEF-53D9-4792-9BA2-980799A5D58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618AB8B9-E89A-4D5C-AFE3-F7E82498FB1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DA97A-1D97-4AC0-928B-0C421665C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98703-9D1B-49B0-AB86-CB5B63B2D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ADC23-BBF5-403C-94A4-E3C8937B7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A8DDE-D615-4948-AE36-995B08570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A26008-948D-4D9A-B7CA-7647462C36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25CC51-561C-4B09-9C8E-F4FC1FAE71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FAD5AF-45A9-4F15-B021-380FE406C5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876FFB-EC72-4CC6-948C-0DD305BBD5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0C6FD3-03D5-44D5-B4F1-7CEDC6705D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D64E6F1-90EB-49E1-9BFF-2592E3D40E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E806E9-C345-49B1-9BFF-8327046C9A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75DEF-760E-496D-A827-7366905B2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E9014A-6B3A-48E7-A80B-B89E78175C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B14592-5685-4204-86E3-F9A8D522B9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CFFEC8-15C9-4923-BCF2-88274A5FE2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E67F3C-2283-4975-81FF-417EA14D45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691A44-26C8-44F6-ADD6-5A3BF3A8DD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98491-2521-421C-8893-F920FC8E3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148B4-D445-44B4-8F4E-C43995C58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06A12-DB36-4EDB-BE02-FABD041B2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B34DA-15DA-4BBC-9CBB-B76D6DA39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85196-E0FE-44FE-B4CB-5626A3C1D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2A872-1AD0-4411-8F97-5B3AFDC32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1B4F5-C48F-426B-92D5-FCF118A91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1CCE1BA9-220E-4F1C-85F2-E14A7A2D13F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491BE8E2-EB74-40E6-89D3-349A885C1C7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191A0035-ED64-4A07-9759-A1C18E9390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518CFF51-C8F9-498B-8016-8831A9B945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DB3B516-427A-4190-A236-80785E4B54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730318D-9DAA-42C8-AE1F-D26BA9892E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5724B1B-54E9-4CFE-BE40-7C53A3C645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C29D01F-79CC-4829-AED4-60DAF5D54D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287AE636-F0B5-4F31-B0D0-60A7381F34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1608122F-FAB5-4A19-AE2A-641DB995DA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D945E85F-D2FB-4F22-8999-B3E01B1406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C1234241-F887-4E09-B10F-92FDC45937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BC9C13BB-7380-417D-A316-BE3D11D78D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1949A07-EB7E-4E77-80A5-3ABAB3AE6F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BD0ABD1E-43AC-4089-90CD-342B07303A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31B2914-79EB-45FA-A128-E238F63D26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235674A0-B0DE-4F11-BB2D-ACE06A3D58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AD885C-FC6C-4FEF-A268-1A8C99C460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705A31-829E-483A-B18A-16F9221DA7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side of the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Networking</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Management</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Comput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lternative but provides a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9B574B-7128-4256-A58C-6EF76ADE00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B91D3D-8398-4AB4-9F05-8CBDE527D8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08C4AFC-076C-44CD-899A-7A2AB94A7D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5488204-5CBD-49C8-B79E-28C8BE3D13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61E0AC-6655-4777-8E21-E6E3B84695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DD90CE9-4AAB-452C-A4E1-7035B13F38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FAF8DAB-EE3A-4F8F-AB83-35571FD809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CDC846-08DF-48A0-AE63-CB18EF8242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631A663-0F52-440A-B722-1D2FDE799E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21A4D6-56CB-4BFB-8E6C-AB4455DC2B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E312EAEF-8135-4450-934E-7477C090D4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8A4368D-DBAD-46D1-9ED0-A75FADBBF4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C206C9-8470-4F60-86A8-85D835B6C4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83B7407F-F9B2-480B-BB08-10C138526E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47C2315-9294-4115-A2C4-77B67ED8C9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137854D0-8CDB-4D74-83EC-8EF0A38624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E53B50-1BE2-4694-8F3F-A4C1CFA182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B567AB-CB84-45A4-8D3A-9A3F1B38EB29}"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927AFA-8FA2-4825-B854-49D8E23E84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6B9D0780-85B1-4C0F-8865-17B07C3ECE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023ACCA-283E-4400-882A-DF34FF48A9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A20F1113-6D1C-46E2-9A00-FED7E02E95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6CA1B1C-AA66-45B5-A14C-FDBB97B3C9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customXml/itemProps2.xml><?xml version="1.0" encoding="utf-8"?>
<ds:datastoreItem xmlns:ds="http://schemas.openxmlformats.org/officeDocument/2006/customXml" ds:itemID="{FCC75706-2E43-4917-B7AE-A681D046FD5E}">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60</TotalTime>
  <Application>LibreOffice/7.4.7.2$Linux_X86_64 LibreOffice_project/40$Build-2</Application>
  <AppVersion>15.0000</AppVersion>
  <Words>2739</Words>
  <Paragraphs>256</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1-09-07T17:15:52Z</dcterms:modified>
  <cp:revision>318</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