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304BE-E981-41BD-A586-79B7B01C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BF7EDD-0B05-40E5-A24F-0672F3400F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926-1909-4F3C-9A1D-03FB3963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389-52B8-4966-8B61-FF902517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B34-536C-4E47-B607-2D1DA02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A52-B4D7-4CBF-9F4B-EE9455F6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75F1C-3246-4FCB-9077-2551C7EBCB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AA33-60C7-4651-A250-F25EA7827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F1C6-4B6F-402E-AFA4-78878CD19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D8E92-C70D-4EFC-A60F-E5E198163B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A04AE-5BB0-40FD-B270-A6322E7D7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BBE43-B247-4CE1-AF82-A722E13110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7099A-6E9B-46D2-8969-109CB13A3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34A-9A5C-49F3-A270-4AE35F9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C6F13-627B-434C-B3C4-406C6B3C38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E231C-7C6A-45AB-A644-52E0B98A1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9B659-A4FA-4E82-BD3D-01FCB8B6D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1185E-244F-449E-B20B-548A56917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FD804-6A1B-446D-8BE6-903A6A45F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DC4-E75A-4BE8-985F-3F72B48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43D-48F2-4F7D-828E-97E3CD7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9C4-2263-4B5B-8F8D-1B865AF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5BA-B50A-46F7-AA8A-5C841E8B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25A-8CF7-4763-A559-C70ACCB8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17C-6A1A-42B4-867A-7A7E4FB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5C6-357A-431E-A5D7-D139758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1B9CF1-B843-41B3-BE6F-7AF60CCEEF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2A1F65-0899-4570-8DF7-F3B0BA157A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A3D7-287E-47AF-8A7D-6910923144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F8259-D5FC-4A81-9637-7851861E0B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A7E0F-4576-4A57-A170-89D1CB784B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3AE4-7FF7-44B6-816B-2AF286EDE0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A7F11-E783-438F-A22A-614C9DC47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C3D92-4FC1-4080-8D1E-E08A0066F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543CA-6D85-4705-9F9D-26131E61D0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0F7D4-5CC1-4CDB-A7F2-D5408F357E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DF769-ECB3-496F-84BF-FE25A305C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4A6A2-AF1B-46FB-8331-053B044B98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2636-958E-42E9-87CE-676F4D8C2D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A7571-F722-4F6D-8A5C-6D9D48A68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5D7EA-05A4-4524-B305-753A7CFCA0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ODO: review actual usage, deployment of SAAS at SISO in current, emerg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75CCB-C9B8-47AF-821D-491FE0EC9C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B3627-C52D-482C-A344-C9679684D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6CD0-C9C7-494C-86DA-7BB37A9C04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0DECA-9CB4-4228-B4BE-574381551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51F94-7C39-4297-AE0C-7A415CB2A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AC8A2-4B5A-4B87-9F40-303D45B92F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E08D1-7603-46EE-9584-12568DC5A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AFF4-1006-4AC4-AA3A-86FC37C50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19</TotalTime>
  <Application>LibreOffice/7.4.7.2$Linux_X86_64 LibreOffice_project/40$Build-2</Application>
  <AppVersion>15.0000</AppVersion>
  <Words>1279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1-09-08T00:30:55Z</dcterms:modified>
  <cp:revision>172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