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3BE2A89-A6CD-495A-9B63-00A8DA7B1D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0E3CD353-26BF-43F0-9D24-89C4AA9D36CE}"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C0C4429C-E78E-44DA-AA64-3894BC5C3B40}"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7E336C-A837-460F-A9F2-9EB8F60938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D7B7A-3B57-478C-A296-D7474C4BB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7E83F1-A32D-4AA1-9527-739A66BF92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14D01C-EB3B-4439-B4B0-4437E77E9C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0F48950-2C78-4D56-B651-FA99C6CE76D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90C93F9-00E5-49D3-ACF0-CDB787ED573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248276D-8340-444F-BD33-E8BB1DFCB1D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C6236F-9256-4452-B127-0D901E84691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837127C-AB85-491F-99A6-8D68F74C9A8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9A6AB3A5-2B9C-4B7F-B979-6D4F462377C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98E147-F8AC-49FF-A485-350FEE86A5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59E63-724E-47AF-ABF5-B0B89C4E8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B6E5DC-C937-46FC-80BA-08904D772A6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4B4F5F-CE55-47C5-95C7-5FEACAED8DD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F8A68A-4F30-4F73-9A62-D22CD2BE35A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32E28B0-C7D9-42F5-B945-A8BA0DBAD63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6F3B9B7-80A7-4C47-A89D-9A11C6BD60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D1854-1303-4A42-8018-DC4A30D74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612B7-7501-4834-9CB4-9CCF541C7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62469-4A0B-4567-9858-2C6AB98F7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151A8-9BE5-47C9-B1A0-9BBCED97E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44A45-D3DC-4EFF-BDBB-010F48767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48E5E-08CE-42C5-93CD-E40D26E07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7CED2-A25A-4F8F-A9F0-985F748010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4C16B386-F907-4DC7-BB20-9B023F496E7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A574D9C2-0FFE-4AA9-AAB0-03C21717FB7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615680"/>
          </a:xfrm>
          <a:prstGeom prst="rect">
            <a:avLst/>
          </a:prstGeom>
          <a:noFill/>
          <a:ln w="0">
            <a:noFill/>
          </a:ln>
        </p:spPr>
        <p:txBody>
          <a:bodyPr numCol="1" spcCol="0" anchor="t">
            <a:normAutofit fontScale="93000"/>
          </a:bodyPr>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E506FC8C-2C85-4AF2-B6C5-2C0BA012AE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F91FA744-3188-41AC-836D-D6A377BC3B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94418238-FF87-4B07-9A36-E61689E322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03BCB818-4FA3-4EB6-9866-B1BA64F8DB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5D01F855-7AF0-4880-990B-2C65CDFDBE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1DEC00D5-A0FB-4D1B-AAFC-13779B43FA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6F0442DD-A1BB-45AD-8A0E-E56D0803A1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0A17B735-0C63-4ECF-911C-F24F1FD5C4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4EB67046-4DF4-48B2-90D5-B8996BE529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F2FEDB4D-7B4A-44E9-A4F9-EC09C1E302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30E1189A-3BE7-44A3-8E52-AE949C3B07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7EFC5E98-CD5A-4092-B91B-5517556124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F0F4AA5A-CA90-47F6-86A4-8311F29EE6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5A53AD91-9DF3-44B9-8626-2D476B38A6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542CBD77-39EC-45F9-848C-C6A28743F1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63D0096-8D19-4D43-8FA7-1CD2DB6007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F35C4F4-0723-4CA2-8EEB-7C61DD4E4D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558E130-BD6E-46FD-8A70-476C918409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B552392-8DC1-4788-8D54-1207F3EEDA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7F42227B-D03D-4B04-A06C-85515A33CF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7A948729-6A29-4D29-9ABE-4241669BA3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CCBB60D-C392-4C66-8FA2-143D207031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73DB32F1-A635-49B7-96D1-428638F510A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10658EE3-80EE-4E48-A918-CB33843D19E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9198C5B-DE91-43FA-9C63-32604FED63D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20AAC29F-396C-441E-8D08-D8B06496A35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20F699-37FA-41C4-AC34-8D25C76DB33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76608CE9-03E7-42DC-AC96-595A56D6E68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36498B52-801C-4A99-A979-EAEABF445BE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9D37C78-2AB3-4D1E-AB36-D31B07DC03C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6E40F5F9-0F11-43FF-8DAF-1CC53F44DBD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6B082634-2534-4292-9594-219C1EF7F48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BD871686-3BFC-4C8F-87EA-077622FFC10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CD2F82E-BF77-4A43-8AB9-6A4D340C2E2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7AA6987-C889-468D-AAB5-5107E58F12D2}"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C3DA38B-34D3-432C-B95F-A8AF9F5D90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59DD13DF-4999-4081-BEE0-B9C1FD8D3C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09021314-7AAB-4617-B3D5-FD47BD6C3E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F1DC88AF-DB9A-4532-AAA5-44E42BCA33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058E972A-E991-40FF-939E-6695D22DD7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616</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4-09-11T17:48:43Z</dcterms:modified>
  <cp:revision>320</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