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679F9D1-C7B5-48B7-BFA1-824CAF9FA9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CDE128D2-A428-46D4-A0DE-6CC1C4F53C65}"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3096C73F-7B2C-4C1A-9A61-7E1B303CB2CA}"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6CD74C-1766-4D81-831F-8373AFA56E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011D8-DE65-4D03-8062-598201116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08DAA-588D-4032-A8EC-FF909A8E3C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30F52C-2731-4064-ABBB-93ABEEE7B1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64D3AB-8604-4AB1-9500-D02E195C91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99A6DF-F99D-4CF5-845A-F7EDCB1895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D7B8331-A13B-43C5-B6DF-CF90088FA3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F62A1E-32E6-410E-B99B-8759B7F86B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7A00134-AA39-425D-8D2A-271E2F8B252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FCCA9DAE-234F-43D1-8B93-55D21FD5EE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E2E817-A821-414A-840B-3B6E092902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A69F4-422C-4A45-885E-595DE779D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1E49D7-953E-45B1-9712-08E9877432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10F306-BB3A-4432-AE0B-1BFF4DE758E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7BBFA9-E41A-4872-B13A-51AE2FCF807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4D4B49-64C4-4BC3-9A64-B511A420D5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BDE3BC2-C3B5-4F5A-81BF-B2D72BAEED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8AB8B-1D34-4BEB-A9D7-9B7F0EA38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0D06C-C780-4C8E-A184-BF28FE7B4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07B12-6991-452C-8626-921A69B42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21DAD-ED1C-4D99-95A7-D2595783C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AA5E6-5D30-4C84-973C-53630C4FB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67872-5253-47B0-87E4-1D3C6CAC4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B8CDC-688D-4555-9C8F-140A69C409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556F1E1B-B63A-4E98-A1FD-6E16D7C6A4C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80CB74AA-CDA6-4184-A0CC-BA01F0DFDF9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615680"/>
          </a:xfrm>
          <a:prstGeom prst="rect">
            <a:avLst/>
          </a:prstGeom>
          <a:noFill/>
          <a:ln w="0">
            <a:noFill/>
          </a:ln>
        </p:spPr>
        <p:txBody>
          <a:bodyPr numCol="1" spcCol="0" anchor="t">
            <a:normAutofit fontScale="93000"/>
          </a:bodyPr>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27E3296A-7648-444C-93F9-614135C97C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3F85620C-62A3-46E3-B225-6AD4AD0A57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F1CDEF73-E12F-41B8-895D-18B52AC737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6A989EC7-122D-49BB-BDBF-2DF0A7AA1D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3068B5A-9503-4072-8F2C-89AA549652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AB9F423E-94C6-4920-9665-078565ACB9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C9ACFCC3-E30E-4718-A27C-AB7FA8ED11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ED37D42D-DD90-4126-8A64-A61FAD6B9A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0FC1BEC5-A938-4F5F-830D-E867C35C15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BFCA34D9-65C8-4170-AC48-46F5CB42F4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8106A91E-C26A-4397-9628-DEE94685CE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CF4432D-7DDF-4804-8975-67A184C1EF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54E6FA6C-9887-496A-BCBD-EA88E485EB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6FC784D6-8FD6-45FF-8D05-F565896FFE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EE76DC39-BF89-4DAB-BB40-31BB96024D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6785140-80E2-494A-B78B-248F0CB401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25770F-1058-4789-8B56-3DAB87216B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281D29-6ADD-4E61-B89F-B4BD82D8E7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052A8C-0AF7-4210-8264-6BD7952FC2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D4D75080-D179-4575-8BB3-FB28397BB4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D854A969-8445-4562-B550-C7CDB12D51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0172AF4-4CBA-4C02-A438-C3D1D12BF9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75965862-6C83-4C6F-A6C9-1DF2AB649F8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7114FFCD-C186-49C2-AC42-7594F567471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F8D953-A4E8-4A61-8432-14E2543C21C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86FCDB51-016F-48B6-9C71-D74F3E27307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3030AE-C786-4ECA-B31F-38F9CE677A4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064CA716-947D-4BC7-92EC-303D45E45D1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FCA46170-6C73-49B3-8F6F-03326D25F84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4B83457-1DB5-42CC-85D6-7108DCD87C6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89144E73-39F6-4FAD-A998-0344C91C73C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D735F58D-8B98-4784-AB6E-427C78A5A43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D3F70C8B-C224-4D40-8A89-C2F210D8970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256D50-926F-4889-BFAA-65AFD053428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D4EAFE-7BB6-4F6A-A3A9-8DBF9D968D7F}"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03A3179-8F49-4A94-BAE9-DF066264B0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F7DEC456-9610-4470-9A0C-2DED343B83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87BA68DF-4C3C-44BE-AEB4-6E90172C20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6B94B79C-B40B-4DD6-B913-26AF36F327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6F522D80-029E-4955-A3E2-42E134ECBD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616</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4-09-11T17:48:43Z</dcterms:modified>
  <cp:revision>320</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