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0CCC710-DC5F-49C5-832F-62A4A54B08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3581CEB3-BF59-4F8E-B18D-30057F67ECC2}"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AF17D2E-501A-4301-A129-646436B0C9F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0D9F3F-5FED-4D6F-ACB3-D44D9652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ACB17-FAE2-4990-88B6-1EFE42D27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151C7-0249-4D4B-AE6A-07963D9D2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7F79C-5084-4824-801F-7E86BB752B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C91A16C-62AE-483C-8351-F9492449DA6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0284A1-CC55-468F-9A54-A694CDEC9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2E2D3C-4109-4738-B53C-EEA9BF723F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CD824A-CF7F-4810-98A1-212D79D08CB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85A29F9-D0ED-4509-A4BF-981E3C00F9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5917C62-C7D7-4F36-87DA-1EB3F3BB17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C3829F-896B-426E-8995-7E853DB22C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49BEB-EF3E-4F3C-A99F-2DCDF2BE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AC0081-700C-41B2-B521-08D3563AC3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C42645-69AF-457A-8540-0C366C47609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1FEE1-E5F9-45FF-877C-1D810EADE0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302F69-23D7-4F7F-A78F-81C53CFDC2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788671-5BA1-4EFD-A275-A90DB8A765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9CAA4-F4B7-42D2-BEF9-F5C6AA67C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3F2C-EC6C-46DD-AF9E-331896490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161EC-07E8-4627-B10B-E77768DAB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F7A05-8B47-416D-A955-EBF0A1678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0FA1-CCDF-42BA-8A57-239664CA2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8B33-9318-457A-8379-DCB0F00F5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88213-8DA7-4ED4-AF22-3C56328F3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42D3FDB-1B33-4871-AB59-82281CD71A2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73AC64B1-A29F-40FC-A100-19E715E82C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D13B4339-F81A-4FBB-9B55-CDD0CD7CF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593AF5AA-51B6-4A29-96CF-75276BC36F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13DD81F9-578C-4633-9957-3D62A0DE18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EBB866D-B8B4-41D2-B458-EE5FCA93A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BE4FB19-ECF1-41ED-B06C-ADEC870924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50AD464F-37E1-409C-816A-A5564B0DA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1BDD7B0-22FD-4FE3-A612-D8E6F92F38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BF78736D-13C0-4089-84C4-1B104EC816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E6E35A06-EBC8-4E92-BC6B-51B749AA9B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5CF290EB-13A8-452F-AFE6-0F1477C18DC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8705F22F-8BBA-4821-A8AD-5ADC5C6F8C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3EB0433-2A50-4292-81DF-60281D2151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0C78532-9452-46A8-AC78-35A39A5CB08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9A4DAE8-DE2F-4D35-A783-EAC9A9FAC6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F301DF23-934E-4FE1-BDFB-97BB992BA4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3E3E57-B3A9-4B48-94BE-809E3251E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D49A78-1E60-41FC-88D8-046C282EF5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side of the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Networking</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Management</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Comput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lternative but provides a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E5EE49-015B-4ABA-9C9D-C4EC2EEDD0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311B264-5ABB-4239-A5F4-47F6836F5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182C012-55B7-4D49-AA65-34C654E5D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4A3B0ED-5AC4-42C0-8028-9D7E737CD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3F8BD1-5752-4782-9974-26CB5608F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0E56D98-2889-40DA-93F8-C8D1E7FBC8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7341F47-14CC-47EC-B3F5-56930F500A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57CCD-1593-4259-8747-BAF6DC19A2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E8214D1-3F63-4825-8DA5-1C568B2B2E1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135AF0-5103-4EFB-A05B-5854E26755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3B7CB5F2-ED99-4A05-8BC2-14DFF72CE4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B8E430-9A65-4A95-B319-5DE97846E0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39337B2-1061-45A0-B639-3B29216E90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1567916B-55C7-4093-89F7-784AEC17D7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9431F3-2D45-4D7D-BB29-44E9A6C6BD7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A5E27D99-475A-4FDD-A852-F4E971DABAA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648A0B-BD36-4EC8-B925-F099040DCE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4AB4C6-4030-43ED-AD13-5426B1D31825}"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2EED2A-545A-4A20-9455-A97E4F065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9E3CCC0E-98F9-4B90-A824-81C597B336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5F2275FE-83EA-4D45-8B6E-8A287008797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46C697A9-DA50-426B-A6CD-3B38F0B8D7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20EC66D-1016-4FA8-BB51-9597F69FF4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2.xml><?xml version="1.0" encoding="utf-8"?>
<?mso-contentType ?>
<FormTemplates xmlns="http://schemas.microsoft.com/sharepoint/v3/contenttype/forms">
  <Display>DocumentLibraryForm</Display>
  <Edit>DocumentLibraryForm</Edit>
  <New>DocumentLibraryForm</New>
</FormTemplates>
</file>

<file path=customXml/itemProps1.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customXml/itemProps2.xml><?xml version="1.0" encoding="utf-8"?>
<ds:datastoreItem xmlns:ds="http://schemas.openxmlformats.org/officeDocument/2006/customXml" ds:itemID="{FCC75706-2E43-4917-B7AE-A681D046FD5E}">
  <ds:schemaRefs>
    <ds:schemaRef ds:uri="http://schemas.microsoft.com/sharepoint/v3/contenttype/forms"/>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60</TotalTime>
  <Application>LibreOffice/7.4.7.2$Linux_X86_64 LibreOffice_project/40$Build-2</Application>
  <AppVersion>15.0000</AppVersion>
  <Words>2739</Words>
  <Paragraphs>256</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1-09-07T17:15:52Z</dcterms:modified>
  <cp:revision>318</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