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776183-AD89-4CC9-954F-F49B18073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1FECA0E-437E-4519-B704-9B09F6BD838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400-E2A4-40C5-A295-2E5F1C60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15C-6206-431A-B2A1-736CF8C4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A9C-9CEA-4361-9D78-0A2AE555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B95B-6E05-4445-8EA4-4C8C16BD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422B5-3A19-486A-8708-41A0539BD6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CDCBF-4DE5-4720-9E59-F7BFF8B4FB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731AB4-2CCA-4690-84BF-C800AFF6C6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51D67-CBF6-4A04-8C7A-69289F3523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93B19-6EE2-4486-8607-17F9CBDC0E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A23A9-6793-4FAD-874C-168D8DE3A0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8ECFF-F6BE-4F62-97A3-C2FD6461A4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096-9B4C-42BC-BEFF-818A80C4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F9580-427C-41E9-B570-ED312D4BBD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A33E4-23FF-46D9-BB64-5991FC0966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EF6BA-DB27-40CD-A169-6AB192ED818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7961E-1DFB-4BC7-A866-DC62DA1603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FF200-C528-4696-916A-225578E4D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E6B4-E8A5-4F95-B415-BE030234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683-B6FC-4177-94CC-1F45B674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587E-23D5-407A-8582-00B2E10A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0D90-9824-4E33-AFA5-3B3C3D65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5D7-1194-4262-B27E-20E04E37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0C3-C8CF-4E00-8E5E-4E090952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5030-E0B7-464D-A925-EF863526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D215F6-0914-4849-9707-C82B7DFD872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E307DF-90B5-46F9-96F5-30D792D1281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13952-3562-4284-A6DB-26E0B55811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CB55B-C39B-4CC1-B4B1-4710F49268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8C1504-F6EF-4E73-9834-1659811132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EA3DC-F312-4255-9A29-B00F31E25D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DD060-B4D1-4B01-AAA7-CD42CB7D2E6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1CB4B-3D9F-43E9-B53E-7DA674D8F2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8C393-E4B4-4442-8CC6-ED3BE14EB4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F8A53-DC78-41B8-A714-CB24A06826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DB00F-48EE-48EE-8DB0-6DD6A5A5FC2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57B35D-A168-4F39-857D-A83A1A469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33342-0E8C-4840-A066-ABC56BFC59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5BB3A-12A6-44F2-80AC-DB866AE51C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E4795-6D3A-4CB8-87AB-D57BB2AC69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ODO: review actual usage, deployment of SAAS at SISO in current, emerging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7E491-8047-44DE-8BCF-872CBD4962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2DC09-5520-4342-8FD6-F97DCF636C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57595-1F67-4118-AC6F-45FA43C84C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74828-C298-4CF0-A096-D713727117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C0D2F-0708-4601-8BA6-D03ABF1F9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30DDD-E526-411B-A1B0-10FD633073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40551-B7F4-4CA0-A2CB-993507262A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0C1A3-A8F5-49C8-9B53-8F46E2BE6C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2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Props1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customXml/itemProps2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19</TotalTime>
  <Application>LibreOffice/7.4.7.2$Linux_X86_64 LibreOffice_project/40$Build-2</Application>
  <AppVersion>15.0000</AppVersion>
  <Words>1279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1-09-08T00:30:55Z</dcterms:modified>
  <cp:revision>172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