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875-67DE-46A7-918D-A835C9AC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0DA-C85B-4D83-ACE5-D2DE9D54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86F-8CC7-48A6-B098-C3814E4F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5A0-59D0-47C3-BE3C-AEA3CBCC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431-697D-4D07-AD4A-861EA3CF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4F2-7684-4669-B625-65555865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55F-7B48-4AB0-9A17-7920E79A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108-32C9-4538-81B9-7B032746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EAC-EDA3-41FC-8188-C2B46E6E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8C0-0FBB-4E21-B4DA-0EC5F701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686-274E-4DE0-82A8-BD0EF4D4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926-3BC2-4894-A9E9-2D6E9BA8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2672-C316-458E-A388-54F278208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4600" y="177840"/>
            <a:ext cx="2417760" cy="471600"/>
            <a:chOff x="174600" y="177840"/>
            <a:chExt cx="2417760" cy="471600"/>
          </a:xfrm>
        </p:grpSpPr>
        <p:graphicFrame>
          <p:nvGraphicFramePr>
            <p:cNvPr id="6" name=""/>
            <p:cNvGraphicFramePr/>
            <p:nvPr/>
          </p:nvGraphicFramePr>
          <p:xfrm>
            <a:off x="174600" y="177840"/>
            <a:ext cx="673200" cy="4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4600" y="177840"/>
                      <a:ext cx="67320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" name=""/>
            <p:cNvSpPr/>
            <p:nvPr/>
          </p:nvSpPr>
          <p:spPr>
            <a:xfrm>
              <a:off x="939600" y="292320"/>
              <a:ext cx="1652760" cy="257040"/>
            </a:xfrm>
            <a:prstGeom prst="roundRect">
              <a:avLst>
                <a:gd name="adj" fmla="val 1249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pplied Physics Laborat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6443640" y="165240"/>
            <a:ext cx="2509920" cy="385560"/>
            <a:chOff x="6443640" y="165240"/>
            <a:chExt cx="2509920" cy="385560"/>
          </a:xfrm>
        </p:grpSpPr>
        <p:sp>
          <p:nvSpPr>
            <p:cNvPr id="10" name=""/>
            <p:cNvSpPr/>
            <p:nvPr/>
          </p:nvSpPr>
          <p:spPr>
            <a:xfrm>
              <a:off x="6443640" y="241200"/>
              <a:ext cx="1569960" cy="236520"/>
            </a:xfrm>
            <a:prstGeom prst="roundRect">
              <a:avLst>
                <a:gd name="adj" fmla="val 1249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University of Washingt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" name=""/>
            <p:cNvGraphicFramePr/>
            <p:nvPr/>
          </p:nvGraphicFramePr>
          <p:xfrm>
            <a:off x="8115480" y="165240"/>
            <a:ext cx="838080" cy="385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115480" y="165240"/>
                      <a:ext cx="838080" cy="38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glider Simulation Test Data Assimilation in MODA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Stew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-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d glider data containing 40m semi-diurnal oscillations, when merged in MODAS Lite, resulted in marked differences in sonar performance pre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ider data may prove advantageous to Navy ASW forces in the form of time-dependent MODAS fields issued, during RIMPAC, by NPMOC Pearl for flee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hours worth of 3-hour glider profiles segregated based on semi-diurnal properties:  high and low baroclinic effect causing simulated 40m amplitude oscillations in thermocline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“low” tide profiles merged separately with identical NAVO temperature initialization files in MODAS Lite (PCIM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MODAS fields produced:  historical, baseline (from NAVO data), “high” and “low” merged fiel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e TL computed for 25, 350, and 700ft for 750Hz source (GRAB) for all four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Khz active SE &amp; RL similarly computed for 25f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t 450ft; TS = 15dB (these and other variables kept fixed for all ru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ths of constant (mean)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20960" y="285120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2590920"/>
            <a:ext cx="1066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89548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1360" y="3178080"/>
            <a:ext cx="1657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 Tide Pro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548080"/>
            <a:ext cx="1066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39960" y="2209680"/>
            <a:ext cx="169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 Tide Pro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8880" y="2862360"/>
            <a:ext cx="76320" cy="75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32040" y="2525760"/>
            <a:ext cx="76320" cy="76320"/>
          </a:xfrm>
          <a:prstGeom prst="ellipse">
            <a:avLst/>
          </a:prstGeom>
          <a:solidFill>
            <a:srgbClr val="fc14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5240" y="2732040"/>
            <a:ext cx="76320" cy="76320"/>
          </a:xfrm>
          <a:prstGeom prst="ellipse">
            <a:avLst/>
          </a:prstGeom>
          <a:solidFill>
            <a:srgbClr val="fc14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743200"/>
            <a:ext cx="76320" cy="76320"/>
          </a:xfrm>
          <a:prstGeom prst="ellipse">
            <a:avLst/>
          </a:prstGeom>
          <a:solidFill>
            <a:srgbClr val="fc14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97400" y="2590920"/>
            <a:ext cx="76320" cy="75960"/>
          </a:xfrm>
          <a:prstGeom prst="ellipse">
            <a:avLst/>
          </a:prstGeom>
          <a:solidFill>
            <a:srgbClr val="fc14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11760" y="2776680"/>
            <a:ext cx="76320" cy="75960"/>
          </a:xfrm>
          <a:prstGeom prst="ellipse">
            <a:avLst/>
          </a:prstGeom>
          <a:solidFill>
            <a:srgbClr val="fc14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19680" y="2776680"/>
            <a:ext cx="75960" cy="75960"/>
          </a:xfrm>
          <a:prstGeom prst="ellipse">
            <a:avLst/>
          </a:prstGeom>
          <a:solidFill>
            <a:srgbClr val="fc14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22720" y="3048120"/>
            <a:ext cx="75960" cy="75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906640"/>
            <a:ext cx="76320" cy="76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0440" y="2862360"/>
            <a:ext cx="76320" cy="75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84520" y="2916360"/>
            <a:ext cx="76320" cy="75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97440" y="3112920"/>
            <a:ext cx="76320" cy="76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34040" y="2982960"/>
            <a:ext cx="76320" cy="76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1800" y="2895480"/>
            <a:ext cx="76320" cy="76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74920" y="2689200"/>
            <a:ext cx="76320" cy="76320"/>
          </a:xfrm>
          <a:prstGeom prst="ellipse">
            <a:avLst/>
          </a:prstGeom>
          <a:solidFill>
            <a:srgbClr val="fc14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47920" y="533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IMAT / MODAS Lite Surfac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50320" y="3672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" y="367200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Wavelet File – 30 March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880" y="649116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” Semi-diurnal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61200" y="64911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” Semi-diurnal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3992400"/>
            <a:ext cx="3200400" cy="2560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295960" y="1125360"/>
            <a:ext cx="3200400" cy="2560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520" y="1125360"/>
            <a:ext cx="3200400" cy="2560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334120" y="3992400"/>
            <a:ext cx="3200400" cy="2560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6923160" y="5356080"/>
            <a:ext cx="304560" cy="15264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112840" y="5365440"/>
            <a:ext cx="304920" cy="15228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250320" y="3443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920" y="344340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Wavelet File – 30 March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880" y="649116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” Semi-diurnal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61200" y="64911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” Semi-diurnal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23160" y="5356080"/>
            <a:ext cx="304560" cy="152640"/>
          </a:xfrm>
          <a:prstGeom prst="line">
            <a:avLst/>
          </a:prstGeom>
          <a:ln w="66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2840" y="5365440"/>
            <a:ext cx="304920" cy="152280"/>
          </a:xfrm>
          <a:prstGeom prst="line">
            <a:avLst/>
          </a:prstGeom>
          <a:ln w="66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84560" y="1143000"/>
            <a:ext cx="714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57800" y="7621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33520" y="3843360"/>
            <a:ext cx="34290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250320" y="3443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920" y="344340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Wavelet File – 30 March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880" y="649116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” Semi-diurnal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61200" y="64911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” Semi-diurnal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923160" y="5356080"/>
            <a:ext cx="304560" cy="152640"/>
          </a:xfrm>
          <a:prstGeom prst="line">
            <a:avLst/>
          </a:prstGeom>
          <a:ln w="66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12840" y="5365440"/>
            <a:ext cx="304920" cy="152280"/>
          </a:xfrm>
          <a:prstGeom prst="line">
            <a:avLst/>
          </a:prstGeom>
          <a:ln w="66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21200" y="1143000"/>
            <a:ext cx="840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0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3354480" cy="268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32320" y="762120"/>
            <a:ext cx="3354480" cy="268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85800" y="3840120"/>
            <a:ext cx="33526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3353040" cy="268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5780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250320" y="3443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920" y="344340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Wavelet File – 30 March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880" y="649116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” Semi-diurnal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61200" y="64911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” Semi-diurnal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923160" y="5356080"/>
            <a:ext cx="304560" cy="15264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112840" y="5365440"/>
            <a:ext cx="304920" cy="15228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21200" y="1143000"/>
            <a:ext cx="840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0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57800" y="762120"/>
            <a:ext cx="3352680" cy="2682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09480" y="685800"/>
            <a:ext cx="33530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381636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81480" y="379404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62400" y="1143000"/>
            <a:ext cx="358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50320" y="3443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920" y="344340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Wavelet File – 30 March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880" y="649116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” Semi-diurnal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61200" y="64911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” Semi-diurnal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834160" y="4952880"/>
            <a:ext cx="293760" cy="206640"/>
          </a:xfrm>
          <a:prstGeom prst="line">
            <a:avLst/>
          </a:prstGeom>
          <a:ln w="66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19320" y="5029200"/>
            <a:ext cx="304560" cy="152280"/>
          </a:xfrm>
          <a:prstGeom prst="line">
            <a:avLst/>
          </a:prstGeom>
          <a:ln w="66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181480" y="690480"/>
            <a:ext cx="3417840" cy="2738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57200" y="66996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35400" y="3781440"/>
            <a:ext cx="3443400" cy="275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3443400" cy="2754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68880" y="1143000"/>
            <a:ext cx="345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50320" y="3443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920" y="344340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Wavelet File – 30 March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880" y="649116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” Semi-diurnal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61200" y="64911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” Semi-diurnal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105520" y="762120"/>
            <a:ext cx="3438360" cy="2695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57200" y="685800"/>
            <a:ext cx="3443400" cy="2754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9360" y="2452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200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392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952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804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340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2172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22320" y="489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64160" y="18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7028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1640" y="5562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4012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6440" y="563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21:31:42Z</dcterms:created>
  <dc:creator>Marc S. Stewart</dc:creator>
  <dc:description/>
  <dc:language>en-US</dc:language>
  <cp:lastModifiedBy>Marc S. Stewart</cp:lastModifiedBy>
  <dcterms:modified xsi:type="dcterms:W3CDTF">2004-05-06T15:55:33Z</dcterms:modified>
  <cp:revision>15</cp:revision>
  <dc:subject/>
  <dc:title>Seaglider Simulation Test Data Assimilation in MODAS: Test Results</dc:title>
</cp:coreProperties>
</file>