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94C-AECC-44C6-A2B7-DE62F81F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459-00A3-4E45-A3C5-9247B545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8B8-C5ED-48AC-B6F0-4CB74EA9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1E6-D278-4300-A3A0-55FCE6C8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879-F0FB-4051-80B0-19DF69B9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E72-6799-46B2-9292-4C5CD365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DC7-9165-4528-BC80-3EF7BB22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DA9-A23B-415A-8F8A-93A562C3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5CD-1AF0-4B36-84B7-0DD05083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C4C-EA3C-4592-BC5D-8E178DE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A5F-4971-4F19-B81B-ED38D6F8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A4D-1861-42F9-A1AE-A768C520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25C0-5EE8-48D9-B33C-921BD8D83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692440" y="2587680"/>
          <a:ext cx="1501560" cy="58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587680"/>
                    <a:ext cx="1501560" cy="58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624320" y="838080"/>
            <a:ext cx="355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AVAL POSTGRADUAT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ENTER FOR AUV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03000" y="1370520"/>
            <a:ext cx="385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RIES AUV FOR MINE RECONNAISSANCE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ULTI-VEHICLE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67160" y="6026040"/>
            <a:ext cx="228600" cy="343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59000" y="5035680"/>
            <a:ext cx="228600" cy="3427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3159000" y="6084720"/>
            <a:ext cx="228600" cy="3427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3159000" y="5837040"/>
            <a:ext cx="228600" cy="3427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466800" y="5221080"/>
            <a:ext cx="228600" cy="343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3466800" y="4976640"/>
            <a:ext cx="228600" cy="343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05000" y="5438880"/>
            <a:ext cx="293760" cy="4381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78400" y="6818400"/>
            <a:ext cx="88560" cy="179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4520" y="6854760"/>
            <a:ext cx="74520" cy="74520"/>
          </a:xfrm>
          <a:prstGeom prst="lightningBolt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83160" y="6818400"/>
            <a:ext cx="88920" cy="179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89280" y="6851520"/>
            <a:ext cx="74520" cy="74880"/>
          </a:xfrm>
          <a:prstGeom prst="lightningBolt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4200" y="4511520"/>
            <a:ext cx="166680" cy="169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0760" y="6703920"/>
            <a:ext cx="208080" cy="96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7200" y="5560920"/>
            <a:ext cx="74880" cy="426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27280" y="5587920"/>
            <a:ext cx="112680" cy="34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9320" y="4608360"/>
            <a:ext cx="195120" cy="8424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3903840"/>
            <a:ext cx="119160" cy="169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18000" y="3900600"/>
            <a:ext cx="118800" cy="169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19440" y="7424640"/>
            <a:ext cx="119160" cy="169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11480" y="7426440"/>
            <a:ext cx="119160" cy="169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16480" y="3784680"/>
            <a:ext cx="74520" cy="15228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06600" y="2979720"/>
            <a:ext cx="14004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63920" y="3606840"/>
            <a:ext cx="9684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62400" y="3470400"/>
            <a:ext cx="307080" cy="291600"/>
            <a:chOff x="3362400" y="3470400"/>
            <a:chExt cx="307080" cy="291600"/>
          </a:xfrm>
        </p:grpSpPr>
        <p:sp>
          <p:nvSpPr>
            <p:cNvPr id="69" name=""/>
            <p:cNvSpPr/>
            <p:nvPr/>
          </p:nvSpPr>
          <p:spPr>
            <a:xfrm>
              <a:off x="3423240" y="3556080"/>
              <a:ext cx="186840" cy="18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3470400"/>
              <a:ext cx="27000" cy="16560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0" y="152"/>
                  </a:moveTo>
                  <a:lnTo>
                    <a:pt x="0" y="14"/>
                  </a:lnTo>
                  <a:lnTo>
                    <a:pt x="5" y="0"/>
                  </a:lnTo>
                  <a:lnTo>
                    <a:pt x="20" y="0"/>
                  </a:lnTo>
                  <a:lnTo>
                    <a:pt x="24" y="14"/>
                  </a:lnTo>
                  <a:lnTo>
                    <a:pt x="24" y="15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7459800">
              <a:off x="3578760" y="3617280"/>
              <a:ext cx="25560" cy="17100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0" y="152"/>
                  </a:moveTo>
                  <a:lnTo>
                    <a:pt x="0" y="14"/>
                  </a:lnTo>
                  <a:lnTo>
                    <a:pt x="5" y="0"/>
                  </a:lnTo>
                  <a:lnTo>
                    <a:pt x="20" y="0"/>
                  </a:lnTo>
                  <a:lnTo>
                    <a:pt x="24" y="14"/>
                  </a:lnTo>
                  <a:lnTo>
                    <a:pt x="24" y="15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4180400">
              <a:off x="3427560" y="3611880"/>
              <a:ext cx="27000" cy="17100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0" y="152"/>
                  </a:moveTo>
                  <a:lnTo>
                    <a:pt x="0" y="14"/>
                  </a:lnTo>
                  <a:lnTo>
                    <a:pt x="5" y="0"/>
                  </a:lnTo>
                  <a:lnTo>
                    <a:pt x="20" y="0"/>
                  </a:lnTo>
                  <a:lnTo>
                    <a:pt x="24" y="14"/>
                  </a:lnTo>
                  <a:lnTo>
                    <a:pt x="24" y="15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76520" y="3610080"/>
              <a:ext cx="80280" cy="77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162240" y="5303880"/>
            <a:ext cx="74520" cy="745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0800" y="5037120"/>
            <a:ext cx="74520" cy="745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08480" y="5184720"/>
            <a:ext cx="74520" cy="745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75240" y="5184720"/>
            <a:ext cx="74520" cy="745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08480" y="5276880"/>
            <a:ext cx="74520" cy="745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73440" y="5276880"/>
            <a:ext cx="74520" cy="745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03560" y="6046920"/>
            <a:ext cx="74520" cy="745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19440" y="6029280"/>
            <a:ext cx="74520" cy="745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18000" y="6291360"/>
            <a:ext cx="74520" cy="745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67080" y="6141960"/>
            <a:ext cx="74520" cy="745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68520" y="6048360"/>
            <a:ext cx="74880" cy="745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02120" y="6145200"/>
            <a:ext cx="74520" cy="745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320" y="2083680"/>
            <a:ext cx="126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725 SC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NAR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4880" y="2774160"/>
            <a:ext cx="108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DI DOPPL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N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43240" y="326376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1600" y="2351160"/>
            <a:ext cx="798480" cy="66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699920" y="235260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4880" y="3790800"/>
            <a:ext cx="90360" cy="74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21000" y="37940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0" y="45"/>
                </a:moveTo>
                <a:lnTo>
                  <a:pt x="12" y="0"/>
                </a:lnTo>
                <a:lnTo>
                  <a:pt x="19" y="45"/>
                </a:lnTo>
                <a:lnTo>
                  <a:pt x="28" y="0"/>
                </a:lnTo>
                <a:lnTo>
                  <a:pt x="39" y="45"/>
                </a:lnTo>
                <a:lnTo>
                  <a:pt x="48" y="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1280" y="3260160"/>
            <a:ext cx="146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W SECTION LE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7000" y="3530520"/>
            <a:ext cx="95256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909800" y="3530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1280" y="2878920"/>
            <a:ext cx="106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PTH 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DU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30440" y="3164040"/>
            <a:ext cx="1008000" cy="66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112480" y="316548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18040" y="3666960"/>
            <a:ext cx="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1280" y="3752280"/>
            <a:ext cx="113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W LAT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RU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TECHNADY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EL 25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06840" y="4222440"/>
            <a:ext cx="515880" cy="11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742920" y="464184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29960" y="433548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36640" y="2895480"/>
            <a:ext cx="50148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4520" y="313776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nTek AD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91080" y="4512600"/>
            <a:ext cx="129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V PROCES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2200" y="4098240"/>
            <a:ext cx="176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RON-DO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ION P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80280" y="364896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W VER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RU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566880" y="3260880"/>
            <a:ext cx="569880" cy="3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0200" y="2467800"/>
            <a:ext cx="138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GNETIC 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682640" y="274644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32240" y="2747880"/>
            <a:ext cx="74124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9200" y="337752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 SERVO (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148280" y="350028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48280" y="377352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48280" y="422424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649320" y="3500280"/>
            <a:ext cx="4986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460680" y="3772080"/>
            <a:ext cx="681120" cy="68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9400" y="4221000"/>
            <a:ext cx="938520" cy="35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5510160"/>
            <a:ext cx="160200" cy="745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4966560"/>
            <a:ext cx="177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 POWER REL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7760" y="4723560"/>
            <a:ext cx="15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 VOLT BATTERY (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7040" y="5203080"/>
            <a:ext cx="175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C/DC POWER SU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9920" y="5412600"/>
            <a:ext cx="182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 VIDEO CASS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ORDER (DV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84520" y="4849920"/>
            <a:ext cx="55728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140360" y="484992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40360" y="508464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154040" y="5322960"/>
            <a:ext cx="43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148280" y="553572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610080" y="5087880"/>
            <a:ext cx="52704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06920" y="5324400"/>
            <a:ext cx="44424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584160" y="5532480"/>
            <a:ext cx="561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3540240" y="5608800"/>
            <a:ext cx="83880" cy="87120"/>
          </a:xfrm>
          <a:custGeom>
            <a:avLst/>
            <a:gdLst>
              <a:gd name="textAreaLeft" fmla="*/ 5400 w 83880"/>
              <a:gd name="textAreaRight" fmla="*/ 78480 w 83880"/>
              <a:gd name="textAreaTop" fmla="*/ 5400 h 87120"/>
              <a:gd name="textAreaBottom" fmla="*/ 81720 h 87120"/>
            </a:gdLst>
            <a:ahLst/>
            <a:rect l="textAreaLeft" t="textAreaTop" r="textAreaRight" b="textAreaBottom"/>
            <a:pathLst>
              <a:path w="21600" h="22431">
                <a:moveTo>
                  <a:pt x="0" y="0"/>
                </a:moveTo>
                <a:lnTo>
                  <a:pt x="21600" y="0"/>
                </a:lnTo>
                <a:lnTo>
                  <a:pt x="21600" y="22431"/>
                </a:lnTo>
                <a:lnTo>
                  <a:pt x="0" y="22431"/>
                </a:lnTo>
                <a:close/>
              </a:path>
              <a:path fill="lightenLess" w="21600" h="224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31">
                <a:moveTo>
                  <a:pt x="21600" y="0"/>
                </a:moveTo>
                <a:lnTo>
                  <a:pt x="21600" y="22431"/>
                </a:lnTo>
                <a:lnTo>
                  <a:pt x="20200" y="21031"/>
                </a:lnTo>
                <a:lnTo>
                  <a:pt x="20200" y="1400"/>
                </a:lnTo>
                <a:close/>
              </a:path>
              <a:path fill="darkenLess" w="21600" h="22431">
                <a:moveTo>
                  <a:pt x="21600" y="22431"/>
                </a:moveTo>
                <a:lnTo>
                  <a:pt x="0" y="22431"/>
                </a:lnTo>
                <a:lnTo>
                  <a:pt x="1400" y="21031"/>
                </a:lnTo>
                <a:lnTo>
                  <a:pt x="20200" y="21031"/>
                </a:lnTo>
                <a:close/>
              </a:path>
              <a:path fill="lighten" w="21600" h="22431">
                <a:moveTo>
                  <a:pt x="0" y="224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31"/>
                </a:lnTo>
                <a:close/>
              </a:path>
              <a:path fill="darken" w="21600" h="22431">
                <a:moveTo>
                  <a:pt x="3794" y="4209"/>
                </a:moveTo>
                <a:lnTo>
                  <a:pt x="17806" y="11215"/>
                </a:lnTo>
                <a:lnTo>
                  <a:pt x="3794" y="182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1640" y="4901400"/>
            <a:ext cx="175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QNX PENT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UTERS +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ARDS + HARD DR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7720" y="5326200"/>
            <a:ext cx="409680" cy="32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744640" y="5322600"/>
            <a:ext cx="69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0200" y="4457160"/>
            <a:ext cx="115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 BALL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593360" y="473544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79600" y="4730760"/>
            <a:ext cx="901800" cy="1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7400" y="5774760"/>
            <a:ext cx="138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 SECTION LE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698640" y="6026040"/>
            <a:ext cx="90720" cy="74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326000">
            <a:off x="3702600" y="602820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0" y="45"/>
                </a:moveTo>
                <a:lnTo>
                  <a:pt x="12" y="0"/>
                </a:lnTo>
                <a:lnTo>
                  <a:pt x="19" y="45"/>
                </a:lnTo>
                <a:lnTo>
                  <a:pt x="28" y="0"/>
                </a:lnTo>
                <a:lnTo>
                  <a:pt x="39" y="45"/>
                </a:lnTo>
                <a:lnTo>
                  <a:pt x="48" y="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219560" y="5892840"/>
            <a:ext cx="3729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752640" y="5899320"/>
            <a:ext cx="46188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94080" y="2743200"/>
            <a:ext cx="7452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91440" y="226152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 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52880" y="238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51320" y="2382840"/>
            <a:ext cx="612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0560" y="6128640"/>
            <a:ext cx="105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 BALL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593360" y="640224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70240" y="6402240"/>
            <a:ext cx="901440" cy="1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4520" y="6965280"/>
            <a:ext cx="123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RN LAT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RU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700360" y="7144920"/>
            <a:ext cx="515880" cy="11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924200" y="72579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56240" y="6525360"/>
            <a:ext cx="12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RN VER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RU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889280" y="680868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74800" y="6808680"/>
            <a:ext cx="719280" cy="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81360" y="6449400"/>
            <a:ext cx="142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EWAVE 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HICLE TO SH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.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9560" y="701748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EWAVE 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GPS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9920" y="6225480"/>
            <a:ext cx="16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hTec GPS RECE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142880" y="6359400"/>
            <a:ext cx="43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138560" y="665964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152960" y="714060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703680" y="6357960"/>
            <a:ext cx="44136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630240" y="6661080"/>
            <a:ext cx="507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717720" y="6943320"/>
            <a:ext cx="43020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3800" y="7484400"/>
            <a:ext cx="110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PS ANTE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141800" y="760896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438360" y="7478280"/>
            <a:ext cx="70488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8840" y="8195400"/>
            <a:ext cx="173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RN PROPUL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TECHNADY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EL 520 THRUSTE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757600" y="862488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792520" y="8364600"/>
            <a:ext cx="118800" cy="2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538440" y="8345160"/>
            <a:ext cx="32868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87680" y="7273800"/>
            <a:ext cx="90720" cy="74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95600" y="727560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0" y="45"/>
                </a:moveTo>
                <a:lnTo>
                  <a:pt x="12" y="0"/>
                </a:lnTo>
                <a:lnTo>
                  <a:pt x="19" y="45"/>
                </a:lnTo>
                <a:lnTo>
                  <a:pt x="28" y="0"/>
                </a:lnTo>
                <a:lnTo>
                  <a:pt x="39" y="45"/>
                </a:lnTo>
                <a:lnTo>
                  <a:pt x="48" y="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1280" y="7481160"/>
            <a:ext cx="15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RN SECTION LE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883880" y="776124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662200" y="7326000"/>
            <a:ext cx="85428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67880" y="8033760"/>
            <a:ext cx="135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Drawn by D. Marco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94160" y="2909880"/>
            <a:ext cx="139680" cy="2444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52880" y="261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563640" y="2612880"/>
            <a:ext cx="48564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55440" y="249336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OUSTIC MOD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15:31:49Z</dcterms:created>
  <dc:creator>dbmarco</dc:creator>
  <dc:description/>
  <dc:language>en-US</dc:language>
  <cp:lastModifiedBy>Don Brutzman</cp:lastModifiedBy>
  <cp:lastPrinted>2000-01-25T05:43:16Z</cp:lastPrinted>
  <dcterms:modified xsi:type="dcterms:W3CDTF">2003-12-10T05:10:55Z</dcterms:modified>
  <cp:revision>54</cp:revision>
  <dc:subject/>
  <dc:title>No Slide Title</dc:title>
</cp:coreProperties>
</file>