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517-5448-4065-B34C-9573B842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057-AE84-47D1-8C34-5AE30332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46E-1DC3-4B71-B256-63D3CBAE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43D-CBB5-4331-922A-4DE7AEF5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25D3-26E0-4A87-81EA-F67A9E36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2024-21E0-4903-AAFD-30411F0A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58D9-0BAC-4A85-9354-039FDD6B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F8AB-F082-42E8-B5D9-0F47A3E1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0DC2-C3CB-461E-9DAA-712297BC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2D76-77EC-407E-B114-DFEB7EB1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8FC3-FDE7-4111-89FC-C9348353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04B-5C13-475F-9C4F-CECEE3EE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D590-8C53-4069-B822-9F4D2550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31CA-7A8D-49D1-B405-2C4A9382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87E4-E6F2-4877-9AAE-6C5E5200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F234-8A4E-4F59-82BF-DFC60CA2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6CBA-0A2C-4022-B514-AE409F64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E5F-6C81-48B8-A7F2-2BF2FE6C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8F2E-E7B4-4D6C-8825-423AB10B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1A1-033C-46C8-A9D3-E3A5AAC4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201-134C-4EB4-8624-4ECDEAF7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7FC-CDBB-477D-9BE8-22826ED0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1EE-D3AB-400F-A0A6-AABA265C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A77-F7C9-40C9-A09B-ACE00137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7B66-63A4-466F-945F-30B5EA8779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9AD8-811B-4A11-A774-275B71731B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Projet « SEA-DIVER 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7c80"/>
                </a:solidFill>
                <a:latin typeface="Tahoma"/>
              </a:rPr>
              <a:t>S</a:t>
            </a:r>
            <a:r>
              <a:rPr b="1" lang="fr-FR" sz="3200" spc="-1" strike="noStrike">
                <a:solidFill>
                  <a:srgbClr val="ccecff"/>
                </a:solidFill>
                <a:latin typeface="Tahoma"/>
              </a:rPr>
              <a:t>ystème d ’</a:t>
            </a:r>
            <a:r>
              <a:rPr b="1" lang="fr-FR" sz="3200" spc="-1" strike="noStrike">
                <a:solidFill>
                  <a:srgbClr val="ff7c80"/>
                </a:solidFill>
                <a:latin typeface="Tahoma"/>
              </a:rPr>
              <a:t>E</a:t>
            </a:r>
            <a:r>
              <a:rPr b="1" lang="fr-FR" sz="3200" spc="-1" strike="noStrike">
                <a:solidFill>
                  <a:srgbClr val="ccecff"/>
                </a:solidFill>
                <a:latin typeface="Tahoma"/>
              </a:rPr>
              <a:t>xploration </a:t>
            </a:r>
            <a:r>
              <a:rPr b="1" lang="fr-FR" sz="3200" spc="-1" strike="noStrike">
                <a:solidFill>
                  <a:srgbClr val="ff7c80"/>
                </a:solidFill>
                <a:latin typeface="Tahoma"/>
              </a:rPr>
              <a:t>A</a:t>
            </a:r>
            <a:r>
              <a:rPr b="1" lang="fr-FR" sz="3200" spc="-1" strike="noStrike">
                <a:solidFill>
                  <a:srgbClr val="ccecff"/>
                </a:solidFill>
                <a:latin typeface="Tahoma"/>
              </a:rPr>
              <a:t>utonome  </a:t>
            </a:r>
            <a:r>
              <a:rPr b="1" lang="fr-FR" sz="3200" spc="-1" strike="noStrike">
                <a:solidFill>
                  <a:srgbClr val="ff7c80"/>
                </a:solidFill>
                <a:latin typeface="Tahoma"/>
              </a:rPr>
              <a:t>D</a:t>
            </a:r>
            <a:r>
              <a:rPr b="1" lang="fr-FR" sz="3200" spc="-1" strike="noStrike">
                <a:solidFill>
                  <a:srgbClr val="ccecff"/>
                </a:solidFill>
                <a:latin typeface="Tahoma"/>
              </a:rPr>
              <a:t> ’</a:t>
            </a:r>
            <a:r>
              <a:rPr b="1" lang="fr-FR" sz="3200" spc="-1" strike="noStrike">
                <a:solidFill>
                  <a:srgbClr val="ff7c80"/>
                </a:solidFill>
                <a:latin typeface="Tahoma"/>
              </a:rPr>
              <a:t>I</a:t>
            </a:r>
            <a:r>
              <a:rPr b="1" lang="fr-FR" sz="3200" spc="-1" strike="noStrike">
                <a:solidFill>
                  <a:srgbClr val="ccecff"/>
                </a:solidFill>
                <a:latin typeface="Tahoma"/>
              </a:rPr>
              <a:t>ntervention </a:t>
            </a:r>
            <a:r>
              <a:rPr b="1" lang="fr-FR" sz="3200" spc="-1" strike="noStrike">
                <a:solidFill>
                  <a:srgbClr val="ff7c80"/>
                </a:solidFill>
                <a:latin typeface="Tahoma"/>
              </a:rPr>
              <a:t>VER</a:t>
            </a:r>
            <a:r>
              <a:rPr b="1" lang="fr-FR" sz="3200" spc="-1" strike="noStrike">
                <a:solidFill>
                  <a:srgbClr val="ccecff"/>
                </a:solidFill>
                <a:latin typeface="Tahoma"/>
              </a:rPr>
              <a:t>sat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ecff"/>
                </a:solidFill>
                <a:latin typeface="Tahoma"/>
              </a:rPr>
              <a:t>___________________________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ecff"/>
                </a:solidFill>
                <a:latin typeface="Tahoma"/>
              </a:rPr>
              <a:t>engin sous-marin à vol plané (« glider »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ecff"/>
                </a:solidFill>
                <a:latin typeface="Tahoma"/>
              </a:rPr>
              <a:t>avec système de réduction de traîné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ecff"/>
                </a:solidFill>
                <a:latin typeface="Tahoma"/>
              </a:rPr>
              <a:t>à régénération d ’énergi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ecff"/>
                </a:solidFill>
                <a:latin typeface="Tahoma"/>
              </a:rPr>
              <a:t>totalement autonom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ecff"/>
                </a:solidFill>
                <a:latin typeface="Tahoma"/>
              </a:rPr>
              <a:t>capacités avancées d ’exploration et d ’interven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mer+uu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3048120"/>
            <a:ext cx="3200400" cy="1600200"/>
          </a:xfrm>
          <a:custGeom>
            <a:avLst/>
            <a:gdLst>
              <a:gd name="textAreaLeft" fmla="*/ 700200 w 3200400"/>
              <a:gd name="textAreaRight" fmla="*/ 2355120 w 3200400"/>
              <a:gd name="textAreaTop" fmla="*/ 214200 h 1600200"/>
              <a:gd name="textAreaBottom" fmla="*/ 13860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5" hR="21600" stAng="10800000" swAng="5400000"/>
                <a:lnTo>
                  <a:pt x="11167" y="0"/>
                </a:lnTo>
                <a:arcTo wR="9455" hR="21600" stAng="-5400000" swAng="3631661"/>
                <a:lnTo>
                  <a:pt x="21323" y="16413"/>
                </a:lnTo>
                <a:lnTo>
                  <a:pt x="19766" y="21600"/>
                </a:lnTo>
                <a:lnTo>
                  <a:pt x="17655" y="16413"/>
                </a:lnTo>
                <a:lnTo>
                  <a:pt x="18633" y="16413"/>
                </a:lnTo>
                <a:arcTo wR="9455" hR="21600" stAng="-1768339" swAng="-3494934"/>
                <a:lnTo>
                  <a:pt x="10311" y="89"/>
                </a:lnTo>
                <a:arcTo wR="9455" hR="21600" stAng="-5536726" swAng="-5263274"/>
                <a:close/>
              </a:path>
              <a:path fill="darkenLess" w="21600" h="21600">
                <a:moveTo>
                  <a:pt x="0" y="21600"/>
                </a:moveTo>
                <a:arcTo wR="9455" hR="21600" stAng="10800000" swAng="5400000"/>
                <a:lnTo>
                  <a:pt x="9455" y="0"/>
                </a:lnTo>
                <a:arcTo wR="9455" hR="21600" stAng="-5400000" swAng="136726"/>
                <a:lnTo>
                  <a:pt x="10311" y="89"/>
                </a:lnTo>
                <a:arcTo wR="9455" hR="21600" stAng="-5536726" swAng="-5263274"/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505320" y="4723560"/>
            <a:ext cx="3504960" cy="1600200"/>
          </a:xfrm>
          <a:custGeom>
            <a:avLst/>
            <a:gdLst>
              <a:gd name="textAreaLeft" fmla="*/ 767160 w 3504960"/>
              <a:gd name="textAreaRight" fmla="*/ 2579400 w 3504960"/>
              <a:gd name="textAreaTop" fmla="*/ 214200 h 1600200"/>
              <a:gd name="textAreaBottom" fmla="*/ 13860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5" hR="21600" stAng="10800000" swAng="5400000"/>
                <a:lnTo>
                  <a:pt x="11167" y="0"/>
                </a:lnTo>
                <a:arcTo wR="9455" hR="21600" stAng="-5400000" swAng="3631661"/>
                <a:lnTo>
                  <a:pt x="21323" y="16413"/>
                </a:lnTo>
                <a:lnTo>
                  <a:pt x="19766" y="21600"/>
                </a:lnTo>
                <a:lnTo>
                  <a:pt x="17655" y="16413"/>
                </a:lnTo>
                <a:lnTo>
                  <a:pt x="18633" y="16413"/>
                </a:lnTo>
                <a:arcTo wR="9455" hR="21600" stAng="-1768339" swAng="-3494934"/>
                <a:lnTo>
                  <a:pt x="10311" y="89"/>
                </a:lnTo>
                <a:arcTo wR="9455" hR="21600" stAng="-5536726" swAng="-5263274"/>
                <a:close/>
              </a:path>
              <a:path fill="darkenLess" w="21600" h="21600">
                <a:moveTo>
                  <a:pt x="0" y="21600"/>
                </a:moveTo>
                <a:arcTo wR="9455" hR="21600" stAng="10800000" swAng="5400000"/>
                <a:lnTo>
                  <a:pt x="9455" y="0"/>
                </a:lnTo>
                <a:arcTo wR="9455" hR="21600" stAng="-5400000" swAng="136726"/>
                <a:lnTo>
                  <a:pt x="10311" y="89"/>
                </a:lnTo>
                <a:arcTo wR="9455" hR="21600" stAng="-5536726" swAng="-5263274"/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000" y="99072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tion sur le balla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=&gt; perte de flottabilité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1905120"/>
            <a:ext cx="152280" cy="990360"/>
          </a:xfrm>
          <a:prstGeom prst="downArrow">
            <a:avLst>
              <a:gd name="adj1" fmla="val 50000"/>
              <a:gd name="adj2" fmla="val 162589"/>
            </a:avLst>
          </a:prstGeom>
          <a:solidFill>
            <a:srgbClr val="99ff66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3080" y="3276720"/>
            <a:ext cx="28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tion sur le balla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=&gt; gain de flottabilité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114800"/>
            <a:ext cx="152280" cy="2057400"/>
          </a:xfrm>
          <a:prstGeom prst="downArrow">
            <a:avLst>
              <a:gd name="adj1" fmla="val 50000"/>
              <a:gd name="adj2" fmla="val 337766"/>
            </a:avLst>
          </a:prstGeom>
          <a:solidFill>
            <a:srgbClr val="99ff66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133720"/>
            <a:ext cx="2819160" cy="152280"/>
          </a:xfrm>
          <a:prstGeom prst="leftRightArrow">
            <a:avLst>
              <a:gd name="adj1" fmla="val 50000"/>
              <a:gd name="adj2" fmla="val 368546"/>
            </a:avLst>
          </a:prstGeom>
          <a:solidFill>
            <a:srgbClr val="ffcc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6120" y="1600200"/>
            <a:ext cx="38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éplacement en « vol plané »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 rot="5400000">
            <a:off x="1066680" y="2970720"/>
            <a:ext cx="1066680" cy="304560"/>
          </a:xfrm>
          <a:custGeom>
            <a:avLst/>
            <a:gdLst>
              <a:gd name="textAreaLeft" fmla="*/ 166680 w 1066680"/>
              <a:gd name="textAreaRight" fmla="*/ 884160 w 1066680"/>
              <a:gd name="textAreaTop" fmla="*/ 77760 h 304560"/>
              <a:gd name="textAreaBottom" fmla="*/ 2268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513"/>
                </a:moveTo>
                <a:lnTo>
                  <a:pt x="14040" y="5513"/>
                </a:ln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14040" y="16087"/>
                </a:lnTo>
                <a:lnTo>
                  <a:pt x="3375" y="16087"/>
                </a:lnTo>
                <a:close/>
              </a:path>
              <a:path w="21600" h="21600">
                <a:moveTo>
                  <a:pt x="0" y="5513"/>
                </a:moveTo>
                <a:lnTo>
                  <a:pt x="675" y="5513"/>
                </a:lnTo>
                <a:lnTo>
                  <a:pt x="675" y="16087"/>
                </a:lnTo>
                <a:lnTo>
                  <a:pt x="0" y="16087"/>
                </a:lnTo>
                <a:close/>
              </a:path>
              <a:path w="21600" h="21600">
                <a:moveTo>
                  <a:pt x="1350" y="5513"/>
                </a:moveTo>
                <a:lnTo>
                  <a:pt x="2700" y="5513"/>
                </a:lnTo>
                <a:lnTo>
                  <a:pt x="2700" y="16087"/>
                </a:lnTo>
                <a:lnTo>
                  <a:pt x="1350" y="1608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 rot="5400000">
            <a:off x="2133720" y="2970720"/>
            <a:ext cx="1066680" cy="304920"/>
          </a:xfrm>
          <a:custGeom>
            <a:avLst/>
            <a:gdLst>
              <a:gd name="textAreaLeft" fmla="*/ 166680 w 1066680"/>
              <a:gd name="textAreaRight" fmla="*/ 884160 w 1066680"/>
              <a:gd name="textAreaTop" fmla="*/ 77760 h 304920"/>
              <a:gd name="textAreaBottom" fmla="*/ 2271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513"/>
                </a:moveTo>
                <a:lnTo>
                  <a:pt x="14040" y="5513"/>
                </a:ln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14040" y="16087"/>
                </a:lnTo>
                <a:lnTo>
                  <a:pt x="3375" y="16087"/>
                </a:lnTo>
                <a:close/>
              </a:path>
              <a:path w="21600" h="21600">
                <a:moveTo>
                  <a:pt x="0" y="5513"/>
                </a:moveTo>
                <a:lnTo>
                  <a:pt x="675" y="5513"/>
                </a:lnTo>
                <a:lnTo>
                  <a:pt x="675" y="16087"/>
                </a:lnTo>
                <a:lnTo>
                  <a:pt x="0" y="16087"/>
                </a:lnTo>
                <a:close/>
              </a:path>
              <a:path w="21600" h="21600">
                <a:moveTo>
                  <a:pt x="1350" y="5513"/>
                </a:moveTo>
                <a:lnTo>
                  <a:pt x="2700" y="5513"/>
                </a:lnTo>
                <a:lnTo>
                  <a:pt x="2700" y="16087"/>
                </a:lnTo>
                <a:lnTo>
                  <a:pt x="1350" y="1608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0960" y="374508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Régénération d ’énergi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3423000">
            <a:off x="2119320" y="481500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Times New Roman"/>
              </a:rPr>
              <a:t>Exploration d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Times New Roman"/>
              </a:rPr>
              <a:t>la lame d ’eau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3640" y="640080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Times New Roman"/>
              </a:rPr>
              <a:t>Exploration du fond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imes New Roman"/>
              </a:rPr>
              <a:t>Un concept de base validé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1" name="pteroa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Times New Roman"/>
              </a:rPr>
              <a:t>Projet « SEA-DIVER »</a:t>
            </a:r>
            <a:br>
              <a:rPr sz="2800"/>
            </a:br>
            <a:r>
              <a:rPr b="1" i="1" lang="en-US" sz="2800" spc="-1" strike="noStrike">
                <a:solidFill>
                  <a:srgbClr val="ccffff"/>
                </a:solidFill>
                <a:latin typeface="Times New Roman"/>
              </a:rPr>
              <a:t>Les différents axes de recherch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Ballast « intelligent » à volume adaptatif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Système de compensation de la charge util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Système « permanent »  de réduction de traîné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Maintien de la capacité énergétique (cellules photoélectriques, contrôle, …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Système de pilotage adaptatif par apprentissage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Système d ’atterrissage autonome sur le fon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Lancement et récupération par une plate-forme sous-marin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Système de localisation, navigation, exploration, détection en environnement non structuré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Intégration globale et missions, en tant que système complex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Times New Roman"/>
              </a:rPr>
              <a:t>Projet « SEA-DIVER »</a:t>
            </a:r>
            <a:br>
              <a:rPr sz="2800"/>
            </a:br>
            <a:r>
              <a:rPr b="1" i="1" lang="en-US" sz="2800" spc="-1" strike="noStrike">
                <a:solidFill>
                  <a:srgbClr val="ccffff"/>
                </a:solidFill>
                <a:latin typeface="Times New Roman"/>
              </a:rPr>
              <a:t>Les coopération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Times New Roman"/>
              </a:rPr>
              <a:t>Naval Postgraduate School of Monterey - Ca. USA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Times New Roman"/>
              </a:rPr>
              <a:t>Université de Tokyo   Jap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Times New Roman"/>
              </a:rPr>
              <a:t>CESTI  - ISITV - ISEM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Times New Roman"/>
              </a:rPr>
              <a:t>Ecole Centrale de Ly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Times New Roman"/>
              </a:rPr>
              <a:t>Entreprises Région PACA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3T19:35:55Z</dcterms:created>
  <dc:creator>jkl</dc:creator>
  <dc:description/>
  <dc:language>en-US</dc:language>
  <cp:lastModifiedBy>jkl</cp:lastModifiedBy>
  <cp:lastPrinted>2001-05-13T22:56:37Z</cp:lastPrinted>
  <dcterms:modified xsi:type="dcterms:W3CDTF">2001-05-14T12:17:59Z</dcterms:modified>
  <cp:revision>9</cp:revision>
  <dc:subject/>
  <dc:title>Projet « SEA-DIVER »</dc:title>
</cp:coreProperties>
</file>