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_rels/.rels" ContentType="application/vnd.openxmlformats-package.relationships+xml"/>
  <Override PartName="/customXml/item1.xml" ContentType="application/xml"/>
  <Override PartName="/customXml/itemProps1.xml" ContentType="application/vnd.openxmlformats-officedocument.customXmlProperties+xml"/>
  <Override PartName="/customXml/item2.xml" ContentType="application/xml"/>
  <Override PartName="/customXml/_rels/item2.xml.rels" ContentType="application/vnd.openxmlformats-package.relationships+xml"/>
  <Override PartName="/customXml/_rels/item1.xml.rels" ContentType="application/vnd.openxmlformats-package.relationships+xml"/>
  <Override PartName="/customXml/itemProps2.xml" ContentType="application/vnd.openxmlformats-officedocument.customXml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customXml" Target="../customXml/item1.xml"/><Relationship Id="rId5" Type="http://schemas.openxmlformats.org/officeDocument/2006/relationships/customXml" Target="../customXml/item2.xml"/><Relationship Id="rId6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85087D-8441-44F1-A041-2DCB8B5B22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CC2E23E-B027-4378-9217-DB993306AEC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5473-D197-4C34-ADAB-2DF4E50DB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8566-0BD3-4524-BE53-8FEEBF3E4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ABD1-1ABA-4B03-A51B-76BB8ECF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6953-E7FD-4726-B1BC-62DF51934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C978E8-2B4D-48A1-9190-9CA007E8AF4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E4F31-2D46-4479-A0EC-7435E4ED80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4DEFB-EFA4-41D2-9566-33127D5C4DE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8DEDA5-7F82-4B3A-B519-928FB5E7C5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3010D6-0496-4EAC-96C5-682DA2CE45A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64420F-8D60-4D38-AAEF-8EB05945E0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20082C-8A23-474F-9E8F-425EC07D99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CAC9-3DBF-4734-A89E-76A2D6705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27B168-660E-4D25-8D90-C84DBCF9722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63B3E-8A69-4884-994E-FCD47D5DA31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4A9350-BE14-4197-9923-5A701BD7766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B3F2F1-FBC0-49A4-B134-C445F2920BE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0724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93720" y="160020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2076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0724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93720" y="3964320"/>
            <a:ext cx="2748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DFE5C7-6481-43B6-AEE7-008C2055AA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960F-6A10-419D-98E7-D65538DC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1FF-AF1A-4711-A3E9-81CD137A4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2272-F6C1-47D0-AFC3-C496664B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B8110-5D0A-4C3C-9594-AD148FDA7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CB101-72D4-4BA6-BF4A-FC30EE01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95480" y="396432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A951-625E-4E74-97B0-DD28EF48A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5480" y="1600200"/>
            <a:ext cx="416592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20760" y="3964320"/>
            <a:ext cx="853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356-6626-45CB-A04B-CD912AF4E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C49128A-C275-4B69-A643-566273157DE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Straight Connector 3"/>
          <p:cNvCxnSpPr/>
          <p:nvPr/>
        </p:nvCxnSpPr>
        <p:spPr>
          <a:xfrm>
            <a:off x="336240" y="1385640"/>
            <a:ext cx="8076240" cy="10080"/>
          </a:xfrm>
          <a:prstGeom prst="straightConnector1">
            <a:avLst/>
          </a:prstGeom>
          <a:ln w="57150">
            <a:solidFill>
              <a:srgbClr val="000090"/>
            </a:solidFill>
            <a:round/>
          </a:ln>
        </p:spPr>
      </p:cxn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CF4BAC-9150-4384-87D2-43D83152F0E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000" y="1635480"/>
            <a:ext cx="7685640" cy="29847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,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, an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0160" y="4278240"/>
            <a:ext cx="6400440" cy="10998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 fontScale="62000"/>
          </a:bodyPr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McGreg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Don Brutz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8b8b8b"/>
                </a:solidFill>
                <a:latin typeface="Arial"/>
              </a:rPr>
              <a:t>MOVES Instit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6113520" y="6118200"/>
            <a:ext cx="290016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rutzman@nps.e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re are economies of scale for data centers, which drives unit cost of compute cycles and storage steadily downw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t limit, CPU and disk are “free and infinite” on the cloud (OK, not quite, but close and trending that w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ble to flexibly get more capacity when needed, scale back down when not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4F7AB4-BBB6-4A6A-8DFA-C474797E4C4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as a Serv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, change the business model for M&amp;S? Enables rental of simulation services from the cloud instead of buying &amp; installing applications on the desk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an still do it the old way if you like, and own the server software, run on a government clo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nalogous to Software as a Serv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S Exchange, Office Web Apps, Google Do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47B7A-D93C-4C39-8F0D-15ABB55CAB1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 for Simul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91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imulations are different from office applications, especially in usage of networ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f you send an entity position update, potentially that has to go to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other simulation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n a virtual world “My position is (17, 23, 42)” may have to be sent to every other particip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us area of interest management (AOIM) and packet filtering are essential nee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43CFB-CCED-4FC6-BE8A-5E709F6E09C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etwork 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70344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"/>
          <p:cNvPicPr/>
          <p:nvPr/>
        </p:nvPicPr>
        <p:blipFill>
          <a:blip r:embed="rId2"/>
          <a:stretch/>
        </p:blipFill>
        <p:spPr>
          <a:xfrm>
            <a:off x="264672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3"/>
          <a:stretch/>
        </p:blipFill>
        <p:spPr>
          <a:xfrm>
            <a:off x="4753080" y="1937160"/>
            <a:ext cx="1417320" cy="14173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"/>
          <p:cNvPicPr/>
          <p:nvPr/>
        </p:nvPicPr>
        <p:blipFill>
          <a:blip r:embed="rId4"/>
          <a:stretch/>
        </p:blipFill>
        <p:spPr>
          <a:xfrm>
            <a:off x="6891480" y="1937160"/>
            <a:ext cx="1417320" cy="1417320"/>
          </a:xfrm>
          <a:prstGeom prst="rect">
            <a:avLst/>
          </a:prstGeom>
          <a:ln w="0">
            <a:noFill/>
          </a:ln>
        </p:spPr>
      </p:pic>
      <p:cxnSp>
        <p:nvCxnSpPr>
          <p:cNvPr id="124" name="Straight Connector 9"/>
          <p:cNvCxnSpPr/>
          <p:nvPr/>
        </p:nvCxnSpPr>
        <p:spPr>
          <a:xfrm>
            <a:off x="1416240" y="4281480"/>
            <a:ext cx="6203520" cy="36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cxnSp>
        <p:nvCxnSpPr>
          <p:cNvPr id="125" name="Straight Connector 12"/>
          <p:cNvCxnSpPr/>
          <p:nvPr/>
        </p:nvCxnSpPr>
        <p:spPr>
          <a:xfrm flipV="1">
            <a:off x="141624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</a:ln>
        </p:spPr>
      </p:cxnSp>
      <p:sp>
        <p:nvSpPr>
          <p:cNvPr id="126" name="Rectangle 17"/>
          <p:cNvSpPr/>
          <p:nvPr/>
        </p:nvSpPr>
        <p:spPr>
          <a:xfrm>
            <a:off x="1693080" y="4558320"/>
            <a:ext cx="1123200" cy="471600"/>
          </a:xfrm>
          <a:prstGeom prst="rect">
            <a:avLst/>
          </a:prstGeom>
          <a:gradFill rotWithShape="0">
            <a:gsLst>
              <a:gs pos="0">
                <a:srgbClr val="3e7fcc"/>
              </a:gs>
              <a:gs pos="100000">
                <a:srgbClr val="a4c1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800" spc="-1" strike="noStrike">
                <a:solidFill>
                  <a:schemeClr val="lt1"/>
                </a:solidFill>
                <a:latin typeface="Calibri"/>
                <a:ea typeface="ＭＳ Ｐゴシック"/>
              </a:rPr>
              <a:t>(x,y,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8"/>
          <p:cNvSpPr/>
          <p:nvPr/>
        </p:nvSpPr>
        <p:spPr>
          <a:xfrm>
            <a:off x="584280" y="5388120"/>
            <a:ext cx="83361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n a LAN or some WANs we can use broadcast or multi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prevent having to send out N-1 repeats of the messag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 require some preconfigu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Straight Arrow Connector 20"/>
          <p:cNvCxnSpPr/>
          <p:nvPr/>
        </p:nvCxnSpPr>
        <p:spPr>
          <a:xfrm flipV="1">
            <a:off x="3353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29" name="Straight Arrow Connector 21"/>
          <p:cNvCxnSpPr/>
          <p:nvPr/>
        </p:nvCxnSpPr>
        <p:spPr>
          <a:xfrm flipV="1">
            <a:off x="545976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cxnSp>
        <p:nvCxnSpPr>
          <p:cNvPr id="130" name="Straight Arrow Connector 22"/>
          <p:cNvCxnSpPr/>
          <p:nvPr/>
        </p:nvCxnSpPr>
        <p:spPr>
          <a:xfrm flipV="1">
            <a:off x="7619400" y="3354840"/>
            <a:ext cx="360" cy="927000"/>
          </a:xfrm>
          <a:prstGeom prst="straightConnector1">
            <a:avLst/>
          </a:prstGeom>
          <a:ln>
            <a:solidFill>
              <a:srgbClr val="4f81bd"/>
            </a:solidFill>
            <a:round/>
            <a:tailEnd len="med" type="arrow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26ECFA-D10A-434F-88FF-D500DF4C9A9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2956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 web networking technologies ther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s no broadcast or multic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. Everything is un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bsockets (TCP), WebRTC (UDP) JavaScript in the web p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means other techniques needed for Area of Interest Management (AOIM) or Data Distribution Management (DDM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e can’t always rely on networking gear to do this for us, as with broadcast or multic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D9AB85-952E-49DE-9E94-B960D54120E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0760" y="1525320"/>
            <a:ext cx="8537040" cy="1997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is moves the needle away from peer-to-peer architectures (classically DIS and HLA) and towards client-server archite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eer-to-peer (P2P) sharing schemes often rely on broadcast and multica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1823040" y="3792960"/>
            <a:ext cx="4880160" cy="2927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19BE37-EAE8-44D0-A59E-57F620C8A6B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 all the packets are flowing through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ing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server, then that server probably can’t handle it all. That’s the bad news. B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have infinite CPU and disk on the server side, because that’s on the cloud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we parallelize across multiple host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e can examine each packet and make decisions about what to send to each client. This reduces the bandwidth used and client load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Thus design of overall network is necessa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E0435B-C89C-4506-96A8-CAAACBB446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4" descr=""/>
          <p:cNvPicPr/>
          <p:nvPr/>
        </p:nvPicPr>
        <p:blipFill>
          <a:blip r:embed="rId1"/>
          <a:stretch/>
        </p:blipFill>
        <p:spPr>
          <a:xfrm>
            <a:off x="3484080" y="2342880"/>
            <a:ext cx="1596240" cy="1596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imgres.jpg"/>
          <p:cNvPicPr/>
          <p:nvPr/>
        </p:nvPicPr>
        <p:blipFill>
          <a:blip r:embed="rId2"/>
          <a:stretch/>
        </p:blipFill>
        <p:spPr>
          <a:xfrm>
            <a:off x="5976000" y="1503720"/>
            <a:ext cx="682920" cy="1230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6"/>
          <p:cNvSpPr/>
          <p:nvPr/>
        </p:nvSpPr>
        <p:spPr>
          <a:xfrm>
            <a:off x="3203280" y="4233600"/>
            <a:ext cx="20070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an be cluster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7"/>
          <p:cNvSpPr/>
          <p:nvPr/>
        </p:nvSpPr>
        <p:spPr>
          <a:xfrm>
            <a:off x="7015680" y="1685160"/>
            <a:ext cx="21592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pplicatio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lustered) do DD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8" descr="computer.png"/>
          <p:cNvPicPr/>
          <p:nvPr/>
        </p:nvPicPr>
        <p:blipFill>
          <a:blip r:embed="rId3"/>
          <a:stretch/>
        </p:blipFill>
        <p:spPr>
          <a:xfrm>
            <a:off x="377640" y="166248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9" descr="computer.png"/>
          <p:cNvPicPr/>
          <p:nvPr/>
        </p:nvPicPr>
        <p:blipFill>
          <a:blip r:embed="rId4"/>
          <a:stretch/>
        </p:blipFill>
        <p:spPr>
          <a:xfrm>
            <a:off x="377640" y="3596760"/>
            <a:ext cx="1282680" cy="12826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"/>
          <p:cNvPicPr/>
          <p:nvPr/>
        </p:nvPicPr>
        <p:blipFill>
          <a:blip r:embed="rId5"/>
          <a:stretch/>
        </p:blipFill>
        <p:spPr>
          <a:xfrm>
            <a:off x="6015960" y="3006360"/>
            <a:ext cx="715680" cy="715680"/>
          </a:xfrm>
          <a:prstGeom prst="rect">
            <a:avLst/>
          </a:prstGeom>
          <a:ln w="0">
            <a:noFill/>
          </a:ln>
        </p:spPr>
      </p:pic>
      <p:sp>
        <p:nvSpPr>
          <p:cNvPr id="146" name="TextBox 11"/>
          <p:cNvSpPr/>
          <p:nvPr/>
        </p:nvSpPr>
        <p:spPr>
          <a:xfrm>
            <a:off x="7004520" y="3100680"/>
            <a:ext cx="12708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b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383760" y="5612400"/>
            <a:ext cx="8776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Straight Connector 15"/>
          <p:cNvCxnSpPr/>
          <p:nvPr/>
        </p:nvCxnSpPr>
        <p:spPr>
          <a:xfrm>
            <a:off x="2653560" y="1503720"/>
            <a:ext cx="16920" cy="4872240"/>
          </a:xfrm>
          <a:prstGeom prst="straightConnector1">
            <a:avLst/>
          </a:prstGeom>
          <a:ln>
            <a:solidFill>
              <a:srgbClr val="ff0000"/>
            </a:solidFill>
            <a:round/>
          </a:ln>
        </p:spPr>
      </p:cxnSp>
      <p:sp>
        <p:nvSpPr>
          <p:cNvPr id="149" name="TextBox 16"/>
          <p:cNvSpPr/>
          <p:nvPr/>
        </p:nvSpPr>
        <p:spPr>
          <a:xfrm>
            <a:off x="2849400" y="5982480"/>
            <a:ext cx="623916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loud (server side, free and infinite CPU and stor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8" descr=""/>
          <p:cNvPicPr/>
          <p:nvPr/>
        </p:nvPicPr>
        <p:blipFill>
          <a:blip r:embed="rId6"/>
          <a:stretch/>
        </p:blipFill>
        <p:spPr>
          <a:xfrm>
            <a:off x="6015960" y="3939840"/>
            <a:ext cx="839520" cy="839520"/>
          </a:xfrm>
          <a:prstGeom prst="rect">
            <a:avLst/>
          </a:prstGeom>
          <a:ln w="0">
            <a:noFill/>
          </a:ln>
        </p:spPr>
      </p:pic>
      <p:sp>
        <p:nvSpPr>
          <p:cNvPr id="151" name="TextBox 19"/>
          <p:cNvSpPr/>
          <p:nvPr/>
        </p:nvSpPr>
        <p:spPr>
          <a:xfrm>
            <a:off x="7007040" y="3911760"/>
            <a:ext cx="188172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maps, op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urce data, et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0" descr=""/>
          <p:cNvPicPr/>
          <p:nvPr/>
        </p:nvPicPr>
        <p:blipFill>
          <a:blip r:embed="rId7"/>
          <a:stretch/>
        </p:blipFill>
        <p:spPr>
          <a:xfrm>
            <a:off x="5969520" y="5059800"/>
            <a:ext cx="845640" cy="845640"/>
          </a:xfrm>
          <a:prstGeom prst="rect">
            <a:avLst/>
          </a:prstGeom>
          <a:ln w="0">
            <a:noFill/>
          </a:ln>
        </p:spPr>
      </p:pic>
      <p:sp>
        <p:nvSpPr>
          <p:cNvPr id="153" name="TextBox 21"/>
          <p:cNvSpPr/>
          <p:nvPr/>
        </p:nvSpPr>
        <p:spPr>
          <a:xfrm>
            <a:off x="6977160" y="5059800"/>
            <a:ext cx="2221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isting Simul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ECD946-9E37-4A80-8B4B-FE1E3175E18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calable Client-Ser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clients connect over unicast, send and receive all updates unicast, resulting in fully connected mes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All updates go through the server side and can be examined on the server side – total vi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xisting simulations and protocols can be connected via bridges, tunnels and conversion gate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DDM/AOIM packet chores can be spread across multiple CPUs on the cloud side. This lets us do elaborate and computationally expensive DDM on the server sid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MS PGothic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CPU efficiency is not important on the cloud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Even with all that, it still doesn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 address latency well.  See Loren Peitso work on networked physics &amp; Defeating La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3827A1-7BA5-4BA3-A104-9A9A0569F29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lexibility is more important than 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cripting languages such as JavaScript are flexible; use this for a DDM language? NodeJS? Javascript executed from Jav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erhaps the client can generate the filter scripts for the packets it desires and send these to the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nknown: what is the effect on latency? Needs an instrumented example to invest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76AB5-071E-4C86-BE2E-6B1E0399D8C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ig-picture question: what does SAAS actually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the problem, which may be mo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are simulations currently deploy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ow will they be deployed? Got stand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.g. can we use World Wide Web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What are the impacts on scaling up simulations to the breadth that we ne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Hmmm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E9D5CA-B586-4A1F-A187-F14BC82DCD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 Though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is is oriented towards DIS, but exactly the same problems occur in HLA; therefore RTI implementations for the Web will face the same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Likewise with WebLVC and other 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 benefits of cloud-based simulation are likely to be so compelling that 25-year-old assumptions about P2P DoD protocols may need to be rethought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E2D0B9-EB61-4AC0-8B5D-A44E88B273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erver-Side DD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n gene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, the superior economics of the cloud and web-based simulation drive simulation to client/server over peer-to-pe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Possible issues with bandwidth, latency mean likely limited to ashore and small-to-medium virtual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ashups with open source internet data sources—live feeds, map data, GIS data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MS PGothic"/>
              </a:rPr>
              <a:t>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Optional changes to business mod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—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y v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r</a:t>
            </a: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ent simulation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is-IS" sz="2400" spc="-1" strike="noStrike">
                <a:solidFill>
                  <a:srgbClr val="000000"/>
                </a:solidFill>
                <a:latin typeface="Arial"/>
                <a:ea typeface="MS PGothic"/>
              </a:rPr>
              <a:t>Plenty of techniques for having existing and web-based sims co-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It’s a worthwhile research top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A22DE-2592-473F-8234-54ACB5ED704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hortfalls and Pitfalls Contin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07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Repeated topic but current status unclear: actual usage, deployment of SAAS at SISO in current and emerging pract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https://www.sisostds.org/Workshops/TracksForums/Services,Processes,Tools,andData(SVCS)Track.asp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arriers and limitations: typically assumes common infrastructure, which generally isn’t happening except in limited ca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orecast: use of Web standards for data mashups and browsers as 3-tier “front end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7681B0-171A-4211-93B2-CD2EDD4E74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"/>
          <p:cNvPicPr/>
          <p:nvPr/>
        </p:nvPicPr>
        <p:blipFill>
          <a:blip r:embed="rId1"/>
          <a:stretch/>
        </p:blipFill>
        <p:spPr>
          <a:xfrm>
            <a:off x="1172160" y="1763280"/>
            <a:ext cx="6316920" cy="4592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D1B670-106B-42A1-B5F3-E127CC4578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imulation Deployment: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67132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mpiled C++/Java code installed on a desktop or LAN following license acqui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desktops are mostly local network, or possibly multiple-site but directly connected via TCP/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n exploit broadcast and multicast — the networking gear helps scalability, usually because they are all on same LAN/backb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468384-C2B3-42A9-8B51-00D81FCDDB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9870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and inflexible to deploy such licensed desktop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t’s expensive to upgrade or even just update the same application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igh management costs are ongoing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Upgrades are slow to come because of the above (often multi-year product life cycl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Inconsistent systems, programs, training across larger enterprise add lifecycle cos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E9D9F-59D7-4BE4-AA1C-BA19F1DE17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(a classic three-tier architectur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"/>
          <p:cNvPicPr/>
          <p:nvPr/>
        </p:nvPicPr>
        <p:blipFill>
          <a:blip r:embed="rId1"/>
          <a:stretch/>
        </p:blipFill>
        <p:spPr>
          <a:xfrm>
            <a:off x="0" y="1649520"/>
            <a:ext cx="9143640" cy="3404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7"/>
          <p:cNvSpPr/>
          <p:nvPr/>
        </p:nvSpPr>
        <p:spPr>
          <a:xfrm>
            <a:off x="4426920" y="5139000"/>
            <a:ext cx="35157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cure Assets, possibly 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Straight Connector 9"/>
          <p:cNvCxnSpPr/>
          <p:nvPr/>
        </p:nvCxnSpPr>
        <p:spPr>
          <a:xfrm flipH="1">
            <a:off x="2865240" y="1649160"/>
            <a:ext cx="98280" cy="4707360"/>
          </a:xfrm>
          <a:prstGeom prst="straightConnector1">
            <a:avLst/>
          </a:prstGeom>
          <a:ln w="50800">
            <a:solidFill>
              <a:srgbClr val="ff0000"/>
            </a:solidFill>
            <a:round/>
          </a:ln>
        </p:spPr>
      </p:cxnSp>
      <p:cxnSp>
        <p:nvCxnSpPr>
          <p:cNvPr id="102" name="Straight Arrow Connector 11"/>
          <p:cNvCxnSpPr/>
          <p:nvPr/>
        </p:nvCxnSpPr>
        <p:spPr>
          <a:xfrm>
            <a:off x="2865240" y="5323320"/>
            <a:ext cx="118908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103" name="Straight Arrow Connector 12"/>
          <p:cNvCxnSpPr/>
          <p:nvPr/>
        </p:nvCxnSpPr>
        <p:spPr>
          <a:xfrm flipH="1">
            <a:off x="1481400" y="6062040"/>
            <a:ext cx="1384200" cy="360"/>
          </a:xfrm>
          <a:prstGeom prst="straightConnector1">
            <a:avLst/>
          </a:prstGeom>
          <a:ln w="85725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104" name="TextBox 15"/>
          <p:cNvSpPr/>
          <p:nvPr/>
        </p:nvSpPr>
        <p:spPr>
          <a:xfrm>
            <a:off x="468360" y="5259240"/>
            <a:ext cx="1546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b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0"/>
          <p:cNvSpPr/>
          <p:nvPr/>
        </p:nvSpPr>
        <p:spPr>
          <a:xfrm>
            <a:off x="484920" y="6220440"/>
            <a:ext cx="1563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 Facing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EEC7A-32C6-4ACC-9329-D476C63CE0F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5121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The business trend is to use web-based applications rather than desktop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Fast deployment of new software—update once on server, use on web browser, faster life cycles (sometimes days or hou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uch che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Exploit cloud on server s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bile devices welcome, agile across multiple architectures (Linux/Windows/Android/IOS et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PGothic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Less capable than compiled applications (though performance difference is not as bad as you might thin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Some UI issues since it’s running inside a web brows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HTML5 helps, X3D Graphics standard also very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119D2F-399E-4A84-BE5D-D8139AD4F14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eb Ap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45255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The economics of this are compelling, as a quick survey sh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ew write desktop mail applications anymore—i.e. instead use gmail, Google Calendar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nterprise apps are mostly web ba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9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gle Docs &amp; Office Online vs. MS Office Desktop (limitations of the gen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77F5B8-C3E0-4C24-A716-8AFC36C10E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l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0760" y="1600200"/>
            <a:ext cx="8537040" cy="110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9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ne thing that makes web apps compelling is economics of the clo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667440" y="2702520"/>
            <a:ext cx="7619400" cy="3958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9DA70-8903-40DB-9448-DCCA00AA07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MOVES_Templat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customXml/_rels/item1.xml.rels><?xml version="1.0" encoding="UTF-8"?>
<Relationships xmlns="http://schemas.openxmlformats.org/package/2006/relationships"><Relationship Id="rId1" Type="http://schemas.openxmlformats.org/officeDocument/2006/relationships/customXmlProps" Target="itemProps1.xml"/>
</Relationships>
</file>

<file path=customXml/_rels/item2.xml.rels><?xml version="1.0" encoding="UTF-8"?>
<Relationships xmlns="http://schemas.openxmlformats.org/package/2006/relationships"><Relationship Id="rId1" Type="http://schemas.openxmlformats.org/officeDocument/2006/relationships/customXmlProps" Target="itemProps2.xml"/>
</Relationships>
</file>

<file path=customXml/item1.xml><?xml version="1.0" encoding="utf-8"?>
<?mso-contentType ?>
<FormTemplates xmlns="http://schemas.microsoft.com/sharepoint/v3/contenttype/forms">
  <Display>DocumentLibraryForm</Display>
  <Edit>DocumentLibraryForm</Edit>
  <New>DocumentLibraryForm</New>
</FormTemplates>
</file>

<file path=customXml/item2.xml><?xml version="1.0" encoding="utf-8"?>
<ct:contentTypeSchema xmlns:ct="http://schemas.microsoft.com/office/2006/metadata/contentType" xmlns:ma="http://schemas.microsoft.com/office/2006/metadata/properties/metaAttributes" ct:_="" ma:_="" ma:contentTypeName="Document" ma:contentTypeID="0x010100001563373756CE4D8A3D6FB421EA66FC" ma:contentTypeVersion="0" ma:contentTypeDescription="Create a new document." ma:contentTypeScope="" ma:versionID="11fbabed02a6ed1c331ac1899bd0631f">
  <xsd:schema xmlns:xsd="http://www.w3.org/2001/XMLSchema" xmlns:p="http://schemas.microsoft.com/office/2006/metadata/properties" targetNamespace="http://schemas.microsoft.com/office/2006/metadata/properties" ma:root="true" ma:fieldsID="4aeb20c0e3442673af7ee10786458764">
    <xsd:element name="properties">
      <xsd:complexType>
        <xsd:sequence>
          <xsd:element name="documentManagement">
            <xsd:complexType>
              <xsd:all/>
            </xsd:complexType>
          </xsd:element>
        </xsd:sequence>
      </xsd:complexType>
    </xsd:element>
  </xsd:schema>
  <xsd:schema xmlns="http://schemas.openxmlformats.org/package/2006/metadata/core-properties" xmlns:xsd="http://www.w3.org/2001/XMLSchema" xmlns:xsi="http://www.w3.org/2001/XMLSchema-instance" xmlns:dc="http://purl.org/dc/elements/1.1/" xmlns:dcterms="http://purl.org/dc/terms/" xmlns:odoc="http://schemas.microsoft.com/office/internal/2005/internalDocumentation" targetNamespace="http://schemas.openxmlformats.org/package/2006/metadata/core-properties" elementFormDefault="qualified" attributeFormDefault="unqualified" blockDefault="#all">
    <xsd:import namespace="http://purl.org/dc/elements/1.1/" schemaLocation="http://dublincore.org/schemas/xmls/qdc/2003/04/02/dc.xsd"/>
    <xsd:import namespace="http://purl.org/dc/terms/" schemaLocation="http://dublincore.org/schemas/xmls/qdc/2003/04/02/dcterms.xsd"/>
    <xsd:element name="coreProperties" type="CT_coreProperties"/>
    <xsd:complexType name="CT_coreProperties">
      <xsd:all>
        <xsd:element ref="dc:creator" minOccurs="0" maxOccurs="1"/>
        <xsd:element ref="dcterms:created" minOccurs="0" maxOccurs="1"/>
        <xsd:element ref="dc:identifier" minOccurs="0" maxOccurs="1"/>
        <xsd:element name="contentType" minOccurs="0" maxOccurs="1" type="xsd:string" ma:index="0" ma:displayName="Content Type" ma:readOnly="true"/>
        <xsd:element ref="dc:title" minOccurs="0" maxOccurs="1" ma:index="4" ma:displayName="Title"/>
        <xsd:element ref="dc:subject" minOccurs="0" maxOccurs="1"/>
        <xsd:element ref="dc:description" minOccurs="0" maxOccurs="1"/>
        <xsd:element name="keywords" minOccurs="0" maxOccurs="1" type="xsd:string"/>
        <xsd:element ref="dc:language" minOccurs="0" maxOccurs="1"/>
        <xsd:element name="category" minOccurs="0" maxOccurs="1" type="xsd:string"/>
        <xsd:element name="version" minOccurs="0" maxOccurs="1" type="xsd:string"/>
        <xsd:element name="revision" minOccurs="0" maxOccurs="1" type="xsd:string">
          <xsd:annotation>
            <xsd:documentation>
                        This value indicates the number of saves or revisions. The application is responsible for updating this value after each revision.
                    </xsd:documentation>
          </xsd:annotation>
        </xsd:element>
        <xsd:element name="lastModifiedBy" minOccurs="0" maxOccurs="1" type="xsd:string"/>
        <xsd:element ref="dcterms:modified" minOccurs="0" maxOccurs="1"/>
        <xsd:element name="lastPrinted" minOccurs="0" maxOccurs="1" type="xsd:dateTime"/>
        <xsd:element name="contentStatus" minOccurs="0" maxOccurs="1" type="xsd:string"/>
      </xsd:all>
    </xsd:complexType>
  </xsd:schema>
</ct:contentTypeSchema>
</file>

<file path=customXml/itemProps1.xml><?xml version="1.0" encoding="utf-8"?>
<ds:datastoreItem xmlns:ds="http://schemas.openxmlformats.org/officeDocument/2006/customXml" ds:itemID="{FCC75706-2E43-4917-B7AE-A681D046FD5E}">
  <ds:schemaRefs>
    <ds:schemaRef ds:uri="http://schemas.microsoft.com/sharepoint/v3/contenttype/forms"/>
  </ds:schemaRefs>
</ds:datastoreItem>
</file>

<file path=customXml/itemProps2.xml><?xml version="1.0" encoding="utf-8"?>
<ds:datastoreItem xmlns:ds="http://schemas.openxmlformats.org/officeDocument/2006/customXml" ds:itemID="{54E0CCA3-6762-4D5B-A3ED-EBE58DEAA8DD}">
  <ds:schemaRefs>
    <ds:schemaRef ds:uri="http://schemas.microsoft.com/office/2006/metadata/contentType"/>
    <ds:schemaRef ds:uri="http://schemas.microsoft.com/office/2006/metadata/properties/metaAttributes"/>
    <ds:schemaRef ds:uri="http://www.w3.org/2001/XMLSchema"/>
    <ds:schemaRef ds:uri="http://schemas.microsoft.com/office/2006/metadata/properties"/>
    <ds:schemaRef ds:uri="http://schemas.openxmlformats.org/package/2006/metadata/core-properties"/>
    <ds:schemaRef ds:uri="http://purl.org/dc/elements/1.1/"/>
    <ds:schemaRef ds:uri="http://purl.org/dc/terms/"/>
    <ds:schemaRef ds:uri="http://schemas.microsoft.com/office/internal/2005/internalDocumentation"/>
  </ds:schemaRefs>
</ds:datastoreItem>
</file>

<file path=docProps/app.xml><?xml version="1.0" encoding="utf-8"?>
<Properties xmlns="http://schemas.openxmlformats.org/officeDocument/2006/extended-properties" xmlns:vt="http://schemas.openxmlformats.org/officeDocument/2006/docPropsVTypes">
  <Template>MOVES_Template.potx</Template>
  <TotalTime>6742</TotalTime>
  <Application>LibreOffice/7.4.7.2$Linux_X86_64 LibreOffice_project/40$Build-2</Application>
  <AppVersion>15.0000</AppVersion>
  <Words>1308</Words>
  <Paragraphs>140</Paragraphs>
  <Company> NPS/MOVES Institut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8T21:17:32Z</dcterms:created>
  <dc:creator/>
  <dc:description/>
  <dc:language>en-US</dc:language>
  <cp:lastModifiedBy>Brutzman, Donald (Don) (CIV)</cp:lastModifiedBy>
  <dcterms:modified xsi:type="dcterms:W3CDTF">2023-06-05T02:41:33Z</dcterms:modified>
  <cp:revision>173</cp:revision>
  <dc:subject/>
  <dc:title>MOVES R&amp;E Summit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01563373756CE4D8A3D6FB421EA66FC</vt:lpwstr>
  </property>
  <property fmtid="{D5CDD505-2E9C-101B-9397-08002B2CF9AE}" pid="3" name="Notes">
    <vt:r8>1</vt:r8>
  </property>
  <property fmtid="{D5CDD505-2E9C-101B-9397-08002B2CF9AE}" pid="4" name="PresentationFormat">
    <vt:lpwstr>On-screen Show (4:3)</vt:lpwstr>
  </property>
  <property fmtid="{D5CDD505-2E9C-101B-9397-08002B2CF9AE}" pid="5" name="Slides">
    <vt:r8>22</vt:r8>
  </property>
</Properties>
</file>